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752B-53AE-4AC3-BD4E-58BF71784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CB3B-4A69-479F-B150-919CC8125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82CB-BB0B-4905-9405-2B5E539D2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3368-829F-4F9E-9ADD-ED200502BF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B926-E2E9-4538-A326-E322BA677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1719-6F3F-453D-B217-4D5AD726C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883E-7BC8-4ABD-935C-28B06E954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BBD8-D77E-4CCC-84BB-73279B6B0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B0A5-61D7-4F65-B3A6-640F65606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9A22-1B28-4EE3-B4AE-B4157D7A9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7186-AB75-4E40-8829-B2CC76E5E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5BF1-BC7F-4EE8-93D0-D4CDBD704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29600" y="647712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8-</a:t>
            </a:r>
            <a:fld id="{E2C5AF7C-5BD8-4698-9ECC-4D0E08B4C32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1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We will move along the elements of A. For each new element we will compare the element with the current element of B. If they match, we will traverse A and B until we find a new element in A and a new element in B accordingly. If the elements are the same w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the previous step until the end of the lists. Else we report that the lists do not have the same set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新細明體"/>
              </a:rPr>
              <a:t>The above algorithm is O(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8729-47F5-49F5-8425-85B98CB874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ercise 2 Solu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ine linearly all the elements a of A. For each element a, perform a binary search in the elements of B looking for an element b such that b=m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2(m,A,B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Foreach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b=binarysearch(m-a, B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if (found(b)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%d + %d = %d”, a,b,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print (“element was not found in b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B1F2-5601-4B8B-8C0B-4FA9133029D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DZ</cp:lastModifiedBy>
  <dcterms:modified xsi:type="dcterms:W3CDTF">2006-10-29T07:24:04Z</dcterms:modified>
  <cp:revision>347</cp:revision>
  <dc:subject/>
  <dc:title>l</dc:title>
</cp:coreProperties>
</file>