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22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6116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608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8960" cy="46368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0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32200" y="0"/>
            <a:ext cx="2928960" cy="46368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7"/>
          </p:nvPr>
        </p:nvSpPr>
        <p:spPr>
          <a:xfrm>
            <a:off x="0" y="8832600"/>
            <a:ext cx="2928960" cy="46332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3832200" y="8832600"/>
            <a:ext cx="2928960" cy="46332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fld id="{5B742145-92C9-449C-80CC-71BEF3E234A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Img"/>
          </p:nvPr>
        </p:nvSpPr>
        <p:spPr>
          <a:xfrm>
            <a:off x="1063440" y="703440"/>
            <a:ext cx="4633560" cy="3474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body"/>
          </p:nvPr>
        </p:nvSpPr>
        <p:spPr>
          <a:xfrm>
            <a:off x="901440" y="4416120"/>
            <a:ext cx="4957560" cy="41814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32200" y="8832600"/>
            <a:ext cx="2928960" cy="46332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fld id="{F9B98449-EDB0-4A2F-9A2E-D55A2990AD9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0" y="8832600"/>
            <a:ext cx="2928960" cy="46332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0" y="0"/>
            <a:ext cx="2928960" cy="46368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32200" y="0"/>
            <a:ext cx="2928960" cy="46368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214280" y="819000"/>
            <a:ext cx="4330800" cy="32482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899640" y="4424400"/>
            <a:ext cx="495468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32200" y="8832600"/>
            <a:ext cx="2928960" cy="46332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fld id="{980742F4-7C4E-40B6-833D-F7B715E0E57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0" y="8832600"/>
            <a:ext cx="2928960" cy="46332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0" y="0"/>
            <a:ext cx="2928960" cy="46368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32200" y="0"/>
            <a:ext cx="2928960" cy="46368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214280" y="819000"/>
            <a:ext cx="4330800" cy="32482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899640" y="4424400"/>
            <a:ext cx="495468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32200" y="8832600"/>
            <a:ext cx="2928960" cy="46332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fld id="{FFEB4223-1B29-4232-BB99-492DDC06FFD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0" y="8832600"/>
            <a:ext cx="2928960" cy="46332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0" y="0"/>
            <a:ext cx="2928960" cy="46368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32200" y="0"/>
            <a:ext cx="2928960" cy="46368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14280" y="819000"/>
            <a:ext cx="4330800" cy="3248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899640" y="4424400"/>
            <a:ext cx="495468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832200" y="8832600"/>
            <a:ext cx="2928960" cy="46332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fld id="{B8A0F993-87F2-4F1E-97A2-84029A347B7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0" y="8832600"/>
            <a:ext cx="2928960" cy="46332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0" y="0"/>
            <a:ext cx="2928960" cy="46368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832200" y="0"/>
            <a:ext cx="2928960" cy="46368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14280" y="819000"/>
            <a:ext cx="4330800" cy="3248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899640" y="4424400"/>
            <a:ext cx="495468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32200" y="8832600"/>
            <a:ext cx="2928960" cy="46332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fld id="{E99F27EF-6907-44BE-8B90-C55A557F2EF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0" y="8832600"/>
            <a:ext cx="2928960" cy="46332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0" y="0"/>
            <a:ext cx="2928960" cy="46368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32200" y="0"/>
            <a:ext cx="2928960" cy="46368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28960" y="9360"/>
            <a:ext cx="29322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28960" y="8852040"/>
            <a:ext cx="29322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tabLst>
                <a:tab algn="l" pos="0"/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-1440" y="8852040"/>
            <a:ext cx="29289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-1440" y="9360"/>
            <a:ext cx="29289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14280" y="819000"/>
            <a:ext cx="4330800" cy="3248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99640" y="4424400"/>
            <a:ext cx="495468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3832200" y="8832600"/>
            <a:ext cx="2928960" cy="46332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fld id="{3B3F9643-D7D9-4A57-848D-E7326C717F6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0" y="8832600"/>
            <a:ext cx="2928960" cy="46332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0" y="0"/>
            <a:ext cx="2928960" cy="46368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832200" y="0"/>
            <a:ext cx="2928960" cy="46368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214280" y="819000"/>
            <a:ext cx="4330800" cy="32482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899640" y="4424400"/>
            <a:ext cx="495468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832200" y="0"/>
            <a:ext cx="2928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32200" y="8832960"/>
            <a:ext cx="2928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8832960"/>
            <a:ext cx="2928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0"/>
            <a:ext cx="2928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30760" y="6480"/>
            <a:ext cx="293040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30760" y="8850240"/>
            <a:ext cx="29304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-1440" y="8850240"/>
            <a:ext cx="29289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-1440" y="6480"/>
            <a:ext cx="29289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3560" cy="34747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01800" y="4422240"/>
            <a:ext cx="4954320" cy="36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832200" y="0"/>
            <a:ext cx="2928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32200" y="8832960"/>
            <a:ext cx="2928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8832960"/>
            <a:ext cx="2928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0"/>
            <a:ext cx="2928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30760" y="6480"/>
            <a:ext cx="293040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30760" y="8850240"/>
            <a:ext cx="29304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-1440" y="8850240"/>
            <a:ext cx="29289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-1440" y="6480"/>
            <a:ext cx="29289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3560" cy="34747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1800" y="4422240"/>
            <a:ext cx="4954320" cy="36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832200" y="0"/>
            <a:ext cx="2928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32200" y="8832960"/>
            <a:ext cx="2928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8832960"/>
            <a:ext cx="2928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0"/>
            <a:ext cx="2928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30760" y="6480"/>
            <a:ext cx="293040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30760" y="8850240"/>
            <a:ext cx="29304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-1440" y="8850240"/>
            <a:ext cx="29289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-1440" y="6480"/>
            <a:ext cx="29289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3560" cy="347472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01800" y="4422240"/>
            <a:ext cx="4954320" cy="36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832200" y="0"/>
            <a:ext cx="2928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32200" y="8832960"/>
            <a:ext cx="2928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8832960"/>
            <a:ext cx="2928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0"/>
            <a:ext cx="2928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30760" y="6480"/>
            <a:ext cx="293040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30760" y="8850240"/>
            <a:ext cx="29304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-1440" y="8850240"/>
            <a:ext cx="29289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-1440" y="6480"/>
            <a:ext cx="29289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3560" cy="34747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01800" y="4422240"/>
            <a:ext cx="4954320" cy="36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832200" y="0"/>
            <a:ext cx="2928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32200" y="8832960"/>
            <a:ext cx="2928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8832960"/>
            <a:ext cx="2928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0"/>
            <a:ext cx="2928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30760" y="6480"/>
            <a:ext cx="293040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30760" y="8850240"/>
            <a:ext cx="29304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-1440" y="8850240"/>
            <a:ext cx="29289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-1440" y="6480"/>
            <a:ext cx="29289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3560" cy="34747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01800" y="4422240"/>
            <a:ext cx="4954320" cy="36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832200" y="0"/>
            <a:ext cx="2928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32200" y="8832960"/>
            <a:ext cx="2928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8832960"/>
            <a:ext cx="2928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0"/>
            <a:ext cx="2928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30760" y="6480"/>
            <a:ext cx="293040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30760" y="8850240"/>
            <a:ext cx="29304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-1440" y="8850240"/>
            <a:ext cx="29289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-1440" y="6480"/>
            <a:ext cx="29289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3560" cy="347472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01800" y="4422240"/>
            <a:ext cx="4954320" cy="36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832200" y="0"/>
            <a:ext cx="2928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32200" y="8832960"/>
            <a:ext cx="2928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8832960"/>
            <a:ext cx="2928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0"/>
            <a:ext cx="2928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30760" y="6480"/>
            <a:ext cx="293040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30760" y="8850240"/>
            <a:ext cx="29304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-1440" y="8850240"/>
            <a:ext cx="29289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-1440" y="6480"/>
            <a:ext cx="29289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063800" y="703440"/>
            <a:ext cx="4633560" cy="347472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01800" y="4422240"/>
            <a:ext cx="4954320" cy="36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6663-72D4-46FD-80FC-EDCF0D2E1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1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1223-56DD-4827-B0C4-466135BE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1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2C3C-362A-46E4-9E71-1882CB8E3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600" y="1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002E-AA0E-4C65-ABE0-2F9C8ECFC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1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743F-74C1-4F09-96B5-31156F48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0F3F-A79F-44B4-B93C-FC239ACE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1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E3CE-1A11-4ABE-9FFA-9F753AB2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32B8-6DBC-4EE0-9C20-5A638272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71600" y="1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3353-B171-4030-B704-0B438DD6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1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BB5C-35B3-4D76-8444-4228BC4A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1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EEFC-924F-4ACA-8372-5E9D5CD0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600" y="1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9A72-C215-483A-85DF-76BB93BC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1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22880" y="62294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DCE2-28C7-48BB-931A-A7472F2221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38240" y="138240"/>
            <a:ext cx="1299960" cy="8348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61920" y="61920"/>
            <a:ext cx="1300320" cy="83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8240" y="138240"/>
            <a:ext cx="1299960" cy="8348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aint" descr=""/>
          <p:cNvPicPr/>
          <p:nvPr/>
        </p:nvPicPr>
        <p:blipFill>
          <a:blip r:embed="rId2"/>
          <a:stretch/>
        </p:blipFill>
        <p:spPr>
          <a:xfrm>
            <a:off x="914400" y="1409760"/>
            <a:ext cx="8229600" cy="384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1920" y="61920"/>
            <a:ext cx="1300320" cy="834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8.wmf"/><Relationship Id="rId10" Type="http://schemas.openxmlformats.org/officeDocument/2006/relationships/image" Target="../media/image15.wmf"/><Relationship Id="rId11" Type="http://schemas.openxmlformats.org/officeDocument/2006/relationships/image" Target="../media/image16.png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17.wmf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18.wmf"/><Relationship Id="rId16" Type="http://schemas.openxmlformats.org/officeDocument/2006/relationships/image" Target="../media/image19.wmf"/><Relationship Id="rId17" Type="http://schemas.openxmlformats.org/officeDocument/2006/relationships/oleObject" Target="../embeddings/oleObject4.bin"/><Relationship Id="rId18" Type="http://schemas.openxmlformats.org/officeDocument/2006/relationships/image" Target="../media/image20.wmf"/><Relationship Id="rId1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2440" y="2664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Times New Roman"/>
              </a:rPr>
              <a:t>AMBULANCE</a:t>
            </a: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 (HC 1001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48800" y="2781000"/>
            <a:ext cx="78994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MOBILE UNIT FOR HEALTH CARE PROVISION VIA TELEMATICS SUPPOR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6633"/>
                </a:solidFill>
                <a:latin typeface="Times New Roman"/>
              </a:rPr>
              <a:t>Catania, April 17 , 199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imes New Roman"/>
              </a:rPr>
              <a:t>Kyriacou Efthyvoulos, NTU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ekyriac@biomed.ntua.g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6" name="htap" descr=""/>
          <p:cNvPicPr/>
          <p:nvPr/>
        </p:nvPicPr>
        <p:blipFill>
          <a:blip r:embed="rId1"/>
          <a:stretch/>
        </p:blipFill>
        <p:spPr>
          <a:xfrm>
            <a:off x="3941640" y="1879560"/>
            <a:ext cx="109548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12800" y="2030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ultation sit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977760" y="1765440"/>
            <a:ext cx="7404120" cy="458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FF3E-9696-4852-8FCB-844800D029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78040" y="2854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bile sit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1480" y="1778040"/>
            <a:ext cx="7099200" cy="447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C50A-7C8B-4B6C-8D03-D1A2EE23FF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002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tocols and Standar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components follow widely used/accepted protocols &amp;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ng environment: Windows 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 API for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used Windows MFC O.O. class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s: TCP/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ow-level programming - WINSOCK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P/IP over modem inherent in Wnin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de portable over all communication media supporting TCP/I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atellite, LAN, POTS, AT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1456-8E80-4C82-8426-8137B17498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50960" y="1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cenario of us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bile unit initiates a 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m initialization and dial procedures 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P/IP communication established between mobile and consultation 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ultation sites has full control of th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from image to bio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le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se, REW &amp; FF of transmitted E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stored in both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75F4-98C6-4FA1-A54C-89257C2453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63560" y="1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monstration Activiti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ed in 3 countries : Italy, Sweden, Gree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scale demonstration - 100 patients per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BULANCE final product available March-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 of alternative communication links-satellite, trunk ra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survey prepared, and a product business pla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0B5D-72A1-48C4-AB98-136F2083B6F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92360" y="3520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ierarchical Task Analysi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of the AMBULANCE-syste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006200" y="2287440"/>
            <a:ext cx="7375680" cy="3510000"/>
            <a:chOff x="1006200" y="2287440"/>
            <a:chExt cx="7375680" cy="3510000"/>
          </a:xfrm>
        </p:grpSpPr>
        <p:sp>
          <p:nvSpPr>
            <p:cNvPr id="230" name=""/>
            <p:cNvSpPr/>
            <p:nvPr/>
          </p:nvSpPr>
          <p:spPr>
            <a:xfrm>
              <a:off x="4073400" y="2287440"/>
              <a:ext cx="908280" cy="471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0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AMBULANCE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YSTE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492360" y="3313080"/>
              <a:ext cx="909720" cy="471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obile Uni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503360" y="4359240"/>
              <a:ext cx="909720" cy="471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87760" y="3313080"/>
              <a:ext cx="908280" cy="471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Hospital Sit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492360" y="4359240"/>
              <a:ext cx="909720" cy="471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.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ommun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98760" y="4359240"/>
              <a:ext cx="907920" cy="471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Local Displ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06560" y="5324400"/>
              <a:ext cx="660240" cy="471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.1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Bio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igna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752480" y="5324400"/>
              <a:ext cx="660600" cy="471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.1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41840" y="5324400"/>
              <a:ext cx="660240" cy="471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.3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rans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iss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995560" y="5324400"/>
              <a:ext cx="660600" cy="471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.3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ecep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70720" y="4359240"/>
              <a:ext cx="909720" cy="471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Gateway to PAC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81720" y="4359240"/>
              <a:ext cx="909720" cy="473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tor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87760" y="4359240"/>
              <a:ext cx="908280" cy="473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ommun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77120" y="4359240"/>
              <a:ext cx="907920" cy="473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.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486320" y="5322960"/>
              <a:ext cx="663480" cy="474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.1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wit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Ambulan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32240" y="5322960"/>
              <a:ext cx="663840" cy="474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.1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othe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Hospit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486320" y="2749680"/>
              <a:ext cx="0" cy="47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92360" y="3230640"/>
              <a:ext cx="190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651200" y="3795840"/>
              <a:ext cx="1800" cy="47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87760" y="4276800"/>
              <a:ext cx="389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237200" y="3795840"/>
              <a:ext cx="1440" cy="47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1503000" y="4276800"/>
              <a:ext cx="2900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00160" y="4842000"/>
              <a:ext cx="0" cy="39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1006200" y="5240160"/>
              <a:ext cx="14079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237200" y="4842000"/>
              <a:ext cx="1440" cy="39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2995560" y="5240160"/>
              <a:ext cx="14083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51200" y="4842000"/>
              <a:ext cx="1800" cy="39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87760" y="5240160"/>
              <a:ext cx="14083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2080" y="3013200"/>
              <a:ext cx="98100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Sub-system lev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17960" y="5073480"/>
              <a:ext cx="22320" cy="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245200" y="5073480"/>
              <a:ext cx="106200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Module lev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C9C6-89D6-4F55-9856-BC2CCD6309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828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sults - Discussio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71680" y="1676160"/>
            <a:ext cx="777240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ystem has been completed and demonstrated with promising results from four pilot 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ERGENCY-112 extension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AOTE: exploitation of EMERGENCY-112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C10B-1735-45B4-935F-A63AD49626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87600" y="1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MBULANCE Objectiv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spcAft>
                <a:spcPts val="1400"/>
              </a:spcAft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evelop a portable device allowing emergency telemedicine services between Ambulances and specialists using GSM lin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emonstrate the potential use of such innovative telematic devices in Emergency care pro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ADA1-1E41-411E-B15F-D75055757C2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87600" y="371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MBULANCE Consortiu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668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1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CCS-NT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824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668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1.1 Athens Medical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824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668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1.2 Medical Diagnosis &amp; 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824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668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1.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af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824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668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1.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 of Cyprus &amp; Ministry of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8240" indent="0">
              <a:spcBef>
                <a:spcPts val="499"/>
              </a:spcBef>
              <a:buNone/>
              <a:tabLst>
                <a:tab algn="l" pos="0"/>
                <a:tab algn="l" pos="668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8240" indent="0">
              <a:spcBef>
                <a:spcPts val="499"/>
              </a:spcBef>
              <a:buNone/>
              <a:tabLst>
                <a:tab algn="l" pos="0"/>
                <a:tab algn="l" pos="668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psilon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35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3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&amp; S Informa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3.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orzio Pisa Rice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35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4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urotechnology S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4.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icsson Info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4.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-MAS Hos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3952-221F-45D3-A6DC-89F31580CD5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87600" y="1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MBULANCE Pilot Sit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308240" y="1890720"/>
          <a:ext cx="1268280" cy="69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8240" y="1890720"/>
                    <a:ext cx="126828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3034440" y="1770120"/>
            <a:ext cx="3478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hens Medical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311120" y="2827440"/>
          <a:ext cx="120348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11120" y="2827440"/>
                    <a:ext cx="120348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3034440" y="2989440"/>
            <a:ext cx="416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ienda Ospedaliera Pis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308240" y="3890880"/>
          <a:ext cx="1206360" cy="75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08240" y="3890880"/>
                    <a:ext cx="120636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3033000" y="3976560"/>
            <a:ext cx="382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-MAS Hospital, Malm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30480" y="5119560"/>
            <a:ext cx="256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cosia Hos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1262160" y="5054760"/>
            <a:ext cx="1270080" cy="766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C558-5DE9-417D-AFE4-60B560E0B6B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62040" y="1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er Nee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809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going integration of prehospital and inhospital emergency car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and better therapies available medical emer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ands for cost efficient health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ion of emergency handling records into modern computer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r public demands medical emergency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7F53-EFB1-4666-9E18-776752458E4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38360" y="1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jor fields of us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10760" y="171612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ing severity of multiple trau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ing handling of major blee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ing handling life threatening cardiac arrhythmia'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ing on-scene thrombolytic therapy in acute myocardial infar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ing use of CPAP-ventilation on s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ing analgesia for stacked victi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ing priorities in cases of multiple victi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85BC-0C18-40F5-945E-0F5CF6539C1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1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y not specialists on board 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keep one specialist in one ambulance around the clock requires totally five special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 missions out of 10 do not request special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ists who only work in ambulance service would soon lose their medical sk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D086-EB20-4A78-837B-96F4FABC221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ystem Featur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36680" y="1690560"/>
            <a:ext cx="8278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ized prehospital  patient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epresence of specialists on site via telema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-directional audiovisual communication between EMTs and specia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tion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 referral to most appropriate medical ce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ultations with specialists in other hospit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in disaster control and rescue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A8E8-221F-4AE7-ADEC-FBDBB70B67F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1047600"/>
            <a:ext cx="91440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429000"/>
            <a:ext cx="3959280" cy="2435400"/>
          </a:xfrm>
          <a:custGeom>
            <a:avLst/>
            <a:gdLst/>
            <a:ahLst/>
            <a:rect l="l" t="t" r="r" b="b"/>
            <a:pathLst>
              <a:path w="2494" h="1534">
                <a:moveTo>
                  <a:pt x="1815" y="146"/>
                </a:moveTo>
                <a:lnTo>
                  <a:pt x="1807" y="140"/>
                </a:lnTo>
                <a:lnTo>
                  <a:pt x="1800" y="133"/>
                </a:lnTo>
                <a:lnTo>
                  <a:pt x="1790" y="129"/>
                </a:lnTo>
                <a:lnTo>
                  <a:pt x="1782" y="122"/>
                </a:lnTo>
                <a:lnTo>
                  <a:pt x="1773" y="116"/>
                </a:lnTo>
                <a:lnTo>
                  <a:pt x="1767" y="112"/>
                </a:lnTo>
                <a:lnTo>
                  <a:pt x="1759" y="105"/>
                </a:lnTo>
                <a:lnTo>
                  <a:pt x="1749" y="101"/>
                </a:lnTo>
                <a:lnTo>
                  <a:pt x="1740" y="94"/>
                </a:lnTo>
                <a:lnTo>
                  <a:pt x="1730" y="92"/>
                </a:lnTo>
                <a:lnTo>
                  <a:pt x="1724" y="90"/>
                </a:lnTo>
                <a:lnTo>
                  <a:pt x="1715" y="86"/>
                </a:lnTo>
                <a:lnTo>
                  <a:pt x="1707" y="81"/>
                </a:lnTo>
                <a:lnTo>
                  <a:pt x="1697" y="75"/>
                </a:lnTo>
                <a:lnTo>
                  <a:pt x="1690" y="71"/>
                </a:lnTo>
                <a:lnTo>
                  <a:pt x="1680" y="68"/>
                </a:lnTo>
                <a:lnTo>
                  <a:pt x="1671" y="68"/>
                </a:lnTo>
                <a:lnTo>
                  <a:pt x="1661" y="64"/>
                </a:lnTo>
                <a:lnTo>
                  <a:pt x="1651" y="60"/>
                </a:lnTo>
                <a:lnTo>
                  <a:pt x="1644" y="58"/>
                </a:lnTo>
                <a:lnTo>
                  <a:pt x="1634" y="58"/>
                </a:lnTo>
                <a:lnTo>
                  <a:pt x="1624" y="56"/>
                </a:lnTo>
                <a:lnTo>
                  <a:pt x="1617" y="51"/>
                </a:lnTo>
                <a:lnTo>
                  <a:pt x="1607" y="51"/>
                </a:lnTo>
                <a:lnTo>
                  <a:pt x="1599" y="47"/>
                </a:lnTo>
                <a:lnTo>
                  <a:pt x="1578" y="47"/>
                </a:lnTo>
                <a:lnTo>
                  <a:pt x="1569" y="45"/>
                </a:lnTo>
                <a:lnTo>
                  <a:pt x="1495" y="45"/>
                </a:lnTo>
                <a:lnTo>
                  <a:pt x="1484" y="47"/>
                </a:lnTo>
                <a:lnTo>
                  <a:pt x="1461" y="47"/>
                </a:lnTo>
                <a:lnTo>
                  <a:pt x="1451" y="51"/>
                </a:lnTo>
                <a:lnTo>
                  <a:pt x="1440" y="51"/>
                </a:lnTo>
                <a:lnTo>
                  <a:pt x="1426" y="56"/>
                </a:lnTo>
                <a:lnTo>
                  <a:pt x="1416" y="58"/>
                </a:lnTo>
                <a:lnTo>
                  <a:pt x="1405" y="60"/>
                </a:lnTo>
                <a:lnTo>
                  <a:pt x="1395" y="64"/>
                </a:lnTo>
                <a:lnTo>
                  <a:pt x="1386" y="68"/>
                </a:lnTo>
                <a:lnTo>
                  <a:pt x="1376" y="71"/>
                </a:lnTo>
                <a:lnTo>
                  <a:pt x="1364" y="75"/>
                </a:lnTo>
                <a:lnTo>
                  <a:pt x="1355" y="79"/>
                </a:lnTo>
                <a:lnTo>
                  <a:pt x="1343" y="81"/>
                </a:lnTo>
                <a:lnTo>
                  <a:pt x="1334" y="90"/>
                </a:lnTo>
                <a:lnTo>
                  <a:pt x="1326" y="92"/>
                </a:lnTo>
                <a:lnTo>
                  <a:pt x="1316" y="94"/>
                </a:lnTo>
                <a:lnTo>
                  <a:pt x="1303" y="101"/>
                </a:lnTo>
                <a:lnTo>
                  <a:pt x="1295" y="109"/>
                </a:lnTo>
                <a:lnTo>
                  <a:pt x="1286" y="116"/>
                </a:lnTo>
                <a:lnTo>
                  <a:pt x="1276" y="120"/>
                </a:lnTo>
                <a:lnTo>
                  <a:pt x="1266" y="127"/>
                </a:lnTo>
                <a:lnTo>
                  <a:pt x="1257" y="133"/>
                </a:lnTo>
                <a:lnTo>
                  <a:pt x="1249" y="140"/>
                </a:lnTo>
                <a:lnTo>
                  <a:pt x="1239" y="150"/>
                </a:lnTo>
                <a:lnTo>
                  <a:pt x="1232" y="157"/>
                </a:lnTo>
                <a:lnTo>
                  <a:pt x="1222" y="163"/>
                </a:lnTo>
                <a:lnTo>
                  <a:pt x="1212" y="174"/>
                </a:lnTo>
                <a:lnTo>
                  <a:pt x="1205" y="180"/>
                </a:lnTo>
                <a:lnTo>
                  <a:pt x="1197" y="174"/>
                </a:lnTo>
                <a:lnTo>
                  <a:pt x="1195" y="165"/>
                </a:lnTo>
                <a:lnTo>
                  <a:pt x="1191" y="163"/>
                </a:lnTo>
                <a:lnTo>
                  <a:pt x="1191" y="159"/>
                </a:lnTo>
                <a:lnTo>
                  <a:pt x="1183" y="150"/>
                </a:lnTo>
                <a:lnTo>
                  <a:pt x="1183" y="146"/>
                </a:lnTo>
                <a:lnTo>
                  <a:pt x="1135" y="92"/>
                </a:lnTo>
                <a:lnTo>
                  <a:pt x="1131" y="92"/>
                </a:lnTo>
                <a:lnTo>
                  <a:pt x="1122" y="81"/>
                </a:lnTo>
                <a:lnTo>
                  <a:pt x="1118" y="81"/>
                </a:lnTo>
                <a:lnTo>
                  <a:pt x="1110" y="71"/>
                </a:lnTo>
                <a:lnTo>
                  <a:pt x="1108" y="71"/>
                </a:lnTo>
                <a:lnTo>
                  <a:pt x="1101" y="64"/>
                </a:lnTo>
                <a:lnTo>
                  <a:pt x="1099" y="64"/>
                </a:lnTo>
                <a:lnTo>
                  <a:pt x="1097" y="60"/>
                </a:lnTo>
                <a:lnTo>
                  <a:pt x="1093" y="60"/>
                </a:lnTo>
                <a:lnTo>
                  <a:pt x="1087" y="56"/>
                </a:lnTo>
                <a:lnTo>
                  <a:pt x="1083" y="56"/>
                </a:lnTo>
                <a:lnTo>
                  <a:pt x="1080" y="51"/>
                </a:lnTo>
                <a:lnTo>
                  <a:pt x="1078" y="51"/>
                </a:lnTo>
                <a:lnTo>
                  <a:pt x="1074" y="47"/>
                </a:lnTo>
                <a:lnTo>
                  <a:pt x="1072" y="47"/>
                </a:lnTo>
                <a:lnTo>
                  <a:pt x="1070" y="45"/>
                </a:lnTo>
                <a:lnTo>
                  <a:pt x="1066" y="45"/>
                </a:lnTo>
                <a:lnTo>
                  <a:pt x="1062" y="40"/>
                </a:lnTo>
                <a:lnTo>
                  <a:pt x="1060" y="40"/>
                </a:lnTo>
                <a:lnTo>
                  <a:pt x="1056" y="36"/>
                </a:lnTo>
                <a:lnTo>
                  <a:pt x="1053" y="36"/>
                </a:lnTo>
                <a:lnTo>
                  <a:pt x="1051" y="34"/>
                </a:lnTo>
                <a:lnTo>
                  <a:pt x="1045" y="34"/>
                </a:lnTo>
                <a:lnTo>
                  <a:pt x="1041" y="30"/>
                </a:lnTo>
                <a:lnTo>
                  <a:pt x="1039" y="30"/>
                </a:lnTo>
                <a:lnTo>
                  <a:pt x="1035" y="25"/>
                </a:lnTo>
                <a:lnTo>
                  <a:pt x="1029" y="25"/>
                </a:lnTo>
                <a:lnTo>
                  <a:pt x="1028" y="25"/>
                </a:lnTo>
                <a:lnTo>
                  <a:pt x="1020" y="25"/>
                </a:lnTo>
                <a:lnTo>
                  <a:pt x="1018" y="21"/>
                </a:lnTo>
                <a:lnTo>
                  <a:pt x="1010" y="21"/>
                </a:lnTo>
                <a:lnTo>
                  <a:pt x="1008" y="17"/>
                </a:lnTo>
                <a:lnTo>
                  <a:pt x="1001" y="17"/>
                </a:lnTo>
                <a:lnTo>
                  <a:pt x="997" y="15"/>
                </a:lnTo>
                <a:lnTo>
                  <a:pt x="987" y="15"/>
                </a:lnTo>
                <a:lnTo>
                  <a:pt x="983" y="10"/>
                </a:lnTo>
                <a:lnTo>
                  <a:pt x="976" y="10"/>
                </a:lnTo>
                <a:lnTo>
                  <a:pt x="972" y="6"/>
                </a:lnTo>
                <a:lnTo>
                  <a:pt x="958" y="6"/>
                </a:lnTo>
                <a:lnTo>
                  <a:pt x="954" y="4"/>
                </a:lnTo>
                <a:lnTo>
                  <a:pt x="933" y="4"/>
                </a:lnTo>
                <a:lnTo>
                  <a:pt x="931" y="0"/>
                </a:lnTo>
                <a:lnTo>
                  <a:pt x="862" y="0"/>
                </a:lnTo>
                <a:lnTo>
                  <a:pt x="858" y="4"/>
                </a:lnTo>
                <a:lnTo>
                  <a:pt x="837" y="4"/>
                </a:lnTo>
                <a:lnTo>
                  <a:pt x="833" y="6"/>
                </a:lnTo>
                <a:lnTo>
                  <a:pt x="820" y="6"/>
                </a:lnTo>
                <a:lnTo>
                  <a:pt x="816" y="10"/>
                </a:lnTo>
                <a:lnTo>
                  <a:pt x="806" y="10"/>
                </a:lnTo>
                <a:lnTo>
                  <a:pt x="802" y="15"/>
                </a:lnTo>
                <a:lnTo>
                  <a:pt x="795" y="15"/>
                </a:lnTo>
                <a:lnTo>
                  <a:pt x="793" y="17"/>
                </a:lnTo>
                <a:lnTo>
                  <a:pt x="783" y="17"/>
                </a:lnTo>
                <a:lnTo>
                  <a:pt x="779" y="21"/>
                </a:lnTo>
                <a:lnTo>
                  <a:pt x="773" y="21"/>
                </a:lnTo>
                <a:lnTo>
                  <a:pt x="771" y="25"/>
                </a:lnTo>
                <a:lnTo>
                  <a:pt x="764" y="25"/>
                </a:lnTo>
                <a:lnTo>
                  <a:pt x="762" y="25"/>
                </a:lnTo>
                <a:lnTo>
                  <a:pt x="754" y="25"/>
                </a:lnTo>
                <a:lnTo>
                  <a:pt x="752" y="30"/>
                </a:lnTo>
                <a:lnTo>
                  <a:pt x="750" y="30"/>
                </a:lnTo>
                <a:lnTo>
                  <a:pt x="746" y="34"/>
                </a:lnTo>
                <a:lnTo>
                  <a:pt x="741" y="34"/>
                </a:lnTo>
                <a:lnTo>
                  <a:pt x="737" y="36"/>
                </a:lnTo>
                <a:lnTo>
                  <a:pt x="735" y="36"/>
                </a:lnTo>
                <a:lnTo>
                  <a:pt x="731" y="40"/>
                </a:lnTo>
                <a:lnTo>
                  <a:pt x="729" y="40"/>
                </a:lnTo>
                <a:lnTo>
                  <a:pt x="725" y="45"/>
                </a:lnTo>
                <a:lnTo>
                  <a:pt x="723" y="45"/>
                </a:lnTo>
                <a:lnTo>
                  <a:pt x="720" y="47"/>
                </a:lnTo>
                <a:lnTo>
                  <a:pt x="716" y="47"/>
                </a:lnTo>
                <a:lnTo>
                  <a:pt x="714" y="51"/>
                </a:lnTo>
                <a:lnTo>
                  <a:pt x="710" y="51"/>
                </a:lnTo>
                <a:lnTo>
                  <a:pt x="706" y="56"/>
                </a:lnTo>
                <a:lnTo>
                  <a:pt x="704" y="56"/>
                </a:lnTo>
                <a:lnTo>
                  <a:pt x="698" y="60"/>
                </a:lnTo>
                <a:lnTo>
                  <a:pt x="694" y="60"/>
                </a:lnTo>
                <a:lnTo>
                  <a:pt x="693" y="64"/>
                </a:lnTo>
                <a:lnTo>
                  <a:pt x="689" y="64"/>
                </a:lnTo>
                <a:lnTo>
                  <a:pt x="685" y="71"/>
                </a:lnTo>
                <a:lnTo>
                  <a:pt x="681" y="71"/>
                </a:lnTo>
                <a:lnTo>
                  <a:pt x="671" y="81"/>
                </a:lnTo>
                <a:lnTo>
                  <a:pt x="668" y="81"/>
                </a:lnTo>
                <a:lnTo>
                  <a:pt x="660" y="92"/>
                </a:lnTo>
                <a:lnTo>
                  <a:pt x="656" y="92"/>
                </a:lnTo>
                <a:lnTo>
                  <a:pt x="608" y="146"/>
                </a:lnTo>
                <a:lnTo>
                  <a:pt x="608" y="150"/>
                </a:lnTo>
                <a:lnTo>
                  <a:pt x="598" y="159"/>
                </a:lnTo>
                <a:lnTo>
                  <a:pt x="598" y="163"/>
                </a:lnTo>
                <a:lnTo>
                  <a:pt x="592" y="170"/>
                </a:lnTo>
                <a:lnTo>
                  <a:pt x="592" y="174"/>
                </a:lnTo>
                <a:lnTo>
                  <a:pt x="587" y="180"/>
                </a:lnTo>
                <a:lnTo>
                  <a:pt x="587" y="185"/>
                </a:lnTo>
                <a:lnTo>
                  <a:pt x="581" y="191"/>
                </a:lnTo>
                <a:lnTo>
                  <a:pt x="581" y="193"/>
                </a:lnTo>
                <a:lnTo>
                  <a:pt x="577" y="200"/>
                </a:lnTo>
                <a:lnTo>
                  <a:pt x="577" y="204"/>
                </a:lnTo>
                <a:lnTo>
                  <a:pt x="506" y="198"/>
                </a:lnTo>
                <a:lnTo>
                  <a:pt x="477" y="198"/>
                </a:lnTo>
                <a:lnTo>
                  <a:pt x="454" y="200"/>
                </a:lnTo>
                <a:lnTo>
                  <a:pt x="429" y="204"/>
                </a:lnTo>
                <a:lnTo>
                  <a:pt x="404" y="208"/>
                </a:lnTo>
                <a:lnTo>
                  <a:pt x="379" y="215"/>
                </a:lnTo>
                <a:lnTo>
                  <a:pt x="356" y="221"/>
                </a:lnTo>
                <a:lnTo>
                  <a:pt x="331" y="228"/>
                </a:lnTo>
                <a:lnTo>
                  <a:pt x="309" y="239"/>
                </a:lnTo>
                <a:lnTo>
                  <a:pt x="286" y="249"/>
                </a:lnTo>
                <a:lnTo>
                  <a:pt x="265" y="260"/>
                </a:lnTo>
                <a:lnTo>
                  <a:pt x="244" y="275"/>
                </a:lnTo>
                <a:lnTo>
                  <a:pt x="223" y="290"/>
                </a:lnTo>
                <a:lnTo>
                  <a:pt x="202" y="303"/>
                </a:lnTo>
                <a:lnTo>
                  <a:pt x="182" y="320"/>
                </a:lnTo>
                <a:lnTo>
                  <a:pt x="165" y="336"/>
                </a:lnTo>
                <a:lnTo>
                  <a:pt x="148" y="355"/>
                </a:lnTo>
                <a:lnTo>
                  <a:pt x="113" y="392"/>
                </a:lnTo>
                <a:lnTo>
                  <a:pt x="100" y="411"/>
                </a:lnTo>
                <a:lnTo>
                  <a:pt x="86" y="433"/>
                </a:lnTo>
                <a:lnTo>
                  <a:pt x="73" y="452"/>
                </a:lnTo>
                <a:lnTo>
                  <a:pt x="61" y="476"/>
                </a:lnTo>
                <a:lnTo>
                  <a:pt x="51" y="495"/>
                </a:lnTo>
                <a:lnTo>
                  <a:pt x="40" y="521"/>
                </a:lnTo>
                <a:lnTo>
                  <a:pt x="30" y="545"/>
                </a:lnTo>
                <a:lnTo>
                  <a:pt x="25" y="570"/>
                </a:lnTo>
                <a:lnTo>
                  <a:pt x="15" y="594"/>
                </a:lnTo>
                <a:lnTo>
                  <a:pt x="9" y="624"/>
                </a:lnTo>
                <a:lnTo>
                  <a:pt x="5" y="646"/>
                </a:lnTo>
                <a:lnTo>
                  <a:pt x="3" y="674"/>
                </a:lnTo>
                <a:lnTo>
                  <a:pt x="0" y="700"/>
                </a:lnTo>
                <a:lnTo>
                  <a:pt x="0" y="756"/>
                </a:lnTo>
                <a:lnTo>
                  <a:pt x="3" y="784"/>
                </a:lnTo>
                <a:lnTo>
                  <a:pt x="5" y="810"/>
                </a:lnTo>
                <a:lnTo>
                  <a:pt x="9" y="833"/>
                </a:lnTo>
                <a:lnTo>
                  <a:pt x="15" y="859"/>
                </a:lnTo>
                <a:lnTo>
                  <a:pt x="25" y="885"/>
                </a:lnTo>
                <a:lnTo>
                  <a:pt x="30" y="911"/>
                </a:lnTo>
                <a:lnTo>
                  <a:pt x="40" y="934"/>
                </a:lnTo>
                <a:lnTo>
                  <a:pt x="51" y="958"/>
                </a:lnTo>
                <a:lnTo>
                  <a:pt x="61" y="980"/>
                </a:lnTo>
                <a:lnTo>
                  <a:pt x="73" y="1003"/>
                </a:lnTo>
                <a:lnTo>
                  <a:pt x="86" y="1023"/>
                </a:lnTo>
                <a:lnTo>
                  <a:pt x="100" y="1044"/>
                </a:lnTo>
                <a:lnTo>
                  <a:pt x="113" y="1064"/>
                </a:lnTo>
                <a:lnTo>
                  <a:pt x="148" y="1102"/>
                </a:lnTo>
                <a:lnTo>
                  <a:pt x="165" y="1120"/>
                </a:lnTo>
                <a:lnTo>
                  <a:pt x="182" y="1135"/>
                </a:lnTo>
                <a:lnTo>
                  <a:pt x="202" y="1154"/>
                </a:lnTo>
                <a:lnTo>
                  <a:pt x="223" y="1167"/>
                </a:lnTo>
                <a:lnTo>
                  <a:pt x="244" y="1180"/>
                </a:lnTo>
                <a:lnTo>
                  <a:pt x="265" y="1193"/>
                </a:lnTo>
                <a:lnTo>
                  <a:pt x="286" y="1208"/>
                </a:lnTo>
                <a:lnTo>
                  <a:pt x="309" y="1219"/>
                </a:lnTo>
                <a:lnTo>
                  <a:pt x="331" y="1227"/>
                </a:lnTo>
                <a:lnTo>
                  <a:pt x="356" y="1234"/>
                </a:lnTo>
                <a:lnTo>
                  <a:pt x="379" y="1243"/>
                </a:lnTo>
                <a:lnTo>
                  <a:pt x="404" y="1249"/>
                </a:lnTo>
                <a:lnTo>
                  <a:pt x="429" y="1253"/>
                </a:lnTo>
                <a:lnTo>
                  <a:pt x="454" y="1255"/>
                </a:lnTo>
                <a:lnTo>
                  <a:pt x="477" y="1258"/>
                </a:lnTo>
                <a:lnTo>
                  <a:pt x="506" y="1258"/>
                </a:lnTo>
                <a:lnTo>
                  <a:pt x="560" y="1255"/>
                </a:lnTo>
                <a:lnTo>
                  <a:pt x="564" y="1255"/>
                </a:lnTo>
                <a:lnTo>
                  <a:pt x="567" y="1273"/>
                </a:lnTo>
                <a:lnTo>
                  <a:pt x="577" y="1286"/>
                </a:lnTo>
                <a:lnTo>
                  <a:pt x="587" y="1303"/>
                </a:lnTo>
                <a:lnTo>
                  <a:pt x="596" y="1316"/>
                </a:lnTo>
                <a:lnTo>
                  <a:pt x="606" y="1329"/>
                </a:lnTo>
                <a:lnTo>
                  <a:pt x="616" y="1344"/>
                </a:lnTo>
                <a:lnTo>
                  <a:pt x="623" y="1357"/>
                </a:lnTo>
                <a:lnTo>
                  <a:pt x="635" y="1370"/>
                </a:lnTo>
                <a:lnTo>
                  <a:pt x="644" y="1385"/>
                </a:lnTo>
                <a:lnTo>
                  <a:pt x="656" y="1393"/>
                </a:lnTo>
                <a:lnTo>
                  <a:pt x="668" y="1408"/>
                </a:lnTo>
                <a:lnTo>
                  <a:pt x="681" y="1419"/>
                </a:lnTo>
                <a:lnTo>
                  <a:pt x="693" y="1428"/>
                </a:lnTo>
                <a:lnTo>
                  <a:pt x="704" y="1439"/>
                </a:lnTo>
                <a:lnTo>
                  <a:pt x="720" y="1449"/>
                </a:lnTo>
                <a:lnTo>
                  <a:pt x="731" y="1458"/>
                </a:lnTo>
                <a:lnTo>
                  <a:pt x="746" y="1467"/>
                </a:lnTo>
                <a:lnTo>
                  <a:pt x="758" y="1477"/>
                </a:lnTo>
                <a:lnTo>
                  <a:pt x="773" y="1484"/>
                </a:lnTo>
                <a:lnTo>
                  <a:pt x="789" y="1488"/>
                </a:lnTo>
                <a:lnTo>
                  <a:pt x="802" y="1497"/>
                </a:lnTo>
                <a:lnTo>
                  <a:pt x="820" y="1503"/>
                </a:lnTo>
                <a:lnTo>
                  <a:pt x="833" y="1510"/>
                </a:lnTo>
                <a:lnTo>
                  <a:pt x="848" y="1514"/>
                </a:lnTo>
                <a:lnTo>
                  <a:pt x="864" y="1520"/>
                </a:lnTo>
                <a:lnTo>
                  <a:pt x="879" y="1523"/>
                </a:lnTo>
                <a:lnTo>
                  <a:pt x="897" y="1527"/>
                </a:lnTo>
                <a:lnTo>
                  <a:pt x="912" y="1531"/>
                </a:lnTo>
                <a:lnTo>
                  <a:pt x="931" y="1531"/>
                </a:lnTo>
                <a:lnTo>
                  <a:pt x="945" y="1533"/>
                </a:lnTo>
                <a:lnTo>
                  <a:pt x="1004" y="1533"/>
                </a:lnTo>
                <a:lnTo>
                  <a:pt x="1020" y="1531"/>
                </a:lnTo>
                <a:lnTo>
                  <a:pt x="1035" y="1531"/>
                </a:lnTo>
                <a:lnTo>
                  <a:pt x="1049" y="1527"/>
                </a:lnTo>
                <a:lnTo>
                  <a:pt x="1062" y="1527"/>
                </a:lnTo>
                <a:lnTo>
                  <a:pt x="1078" y="1523"/>
                </a:lnTo>
                <a:lnTo>
                  <a:pt x="1089" y="1520"/>
                </a:lnTo>
                <a:lnTo>
                  <a:pt x="1101" y="1518"/>
                </a:lnTo>
                <a:lnTo>
                  <a:pt x="1118" y="1514"/>
                </a:lnTo>
                <a:lnTo>
                  <a:pt x="1130" y="1507"/>
                </a:lnTo>
                <a:lnTo>
                  <a:pt x="1141" y="1503"/>
                </a:lnTo>
                <a:lnTo>
                  <a:pt x="1157" y="1497"/>
                </a:lnTo>
                <a:lnTo>
                  <a:pt x="1168" y="1492"/>
                </a:lnTo>
                <a:lnTo>
                  <a:pt x="1180" y="1488"/>
                </a:lnTo>
                <a:lnTo>
                  <a:pt x="1191" y="1479"/>
                </a:lnTo>
                <a:lnTo>
                  <a:pt x="1205" y="1473"/>
                </a:lnTo>
                <a:lnTo>
                  <a:pt x="1216" y="1467"/>
                </a:lnTo>
                <a:lnTo>
                  <a:pt x="1226" y="1458"/>
                </a:lnTo>
                <a:lnTo>
                  <a:pt x="1237" y="1449"/>
                </a:lnTo>
                <a:lnTo>
                  <a:pt x="1249" y="1443"/>
                </a:lnTo>
                <a:lnTo>
                  <a:pt x="1257" y="1432"/>
                </a:lnTo>
                <a:lnTo>
                  <a:pt x="1270" y="1423"/>
                </a:lnTo>
                <a:lnTo>
                  <a:pt x="1280" y="1415"/>
                </a:lnTo>
                <a:lnTo>
                  <a:pt x="1291" y="1404"/>
                </a:lnTo>
                <a:lnTo>
                  <a:pt x="1326" y="1363"/>
                </a:lnTo>
                <a:lnTo>
                  <a:pt x="1336" y="1350"/>
                </a:lnTo>
                <a:lnTo>
                  <a:pt x="1345" y="1339"/>
                </a:lnTo>
                <a:lnTo>
                  <a:pt x="1355" y="1327"/>
                </a:lnTo>
                <a:lnTo>
                  <a:pt x="1364" y="1329"/>
                </a:lnTo>
                <a:lnTo>
                  <a:pt x="1366" y="1329"/>
                </a:lnTo>
                <a:lnTo>
                  <a:pt x="1376" y="1339"/>
                </a:lnTo>
                <a:lnTo>
                  <a:pt x="1378" y="1339"/>
                </a:lnTo>
                <a:lnTo>
                  <a:pt x="1386" y="1348"/>
                </a:lnTo>
                <a:lnTo>
                  <a:pt x="1388" y="1348"/>
                </a:lnTo>
                <a:lnTo>
                  <a:pt x="1391" y="1350"/>
                </a:lnTo>
                <a:lnTo>
                  <a:pt x="1395" y="1350"/>
                </a:lnTo>
                <a:lnTo>
                  <a:pt x="1399" y="1357"/>
                </a:lnTo>
                <a:lnTo>
                  <a:pt x="1403" y="1357"/>
                </a:lnTo>
                <a:lnTo>
                  <a:pt x="1405" y="1359"/>
                </a:lnTo>
                <a:lnTo>
                  <a:pt x="1409" y="1359"/>
                </a:lnTo>
                <a:lnTo>
                  <a:pt x="1413" y="1363"/>
                </a:lnTo>
                <a:lnTo>
                  <a:pt x="1414" y="1363"/>
                </a:lnTo>
                <a:lnTo>
                  <a:pt x="1416" y="1367"/>
                </a:lnTo>
                <a:lnTo>
                  <a:pt x="1420" y="1367"/>
                </a:lnTo>
                <a:lnTo>
                  <a:pt x="1424" y="1370"/>
                </a:lnTo>
                <a:lnTo>
                  <a:pt x="1426" y="1370"/>
                </a:lnTo>
                <a:lnTo>
                  <a:pt x="1430" y="1374"/>
                </a:lnTo>
                <a:lnTo>
                  <a:pt x="1434" y="1374"/>
                </a:lnTo>
                <a:lnTo>
                  <a:pt x="1436" y="1378"/>
                </a:lnTo>
                <a:lnTo>
                  <a:pt x="1440" y="1378"/>
                </a:lnTo>
                <a:lnTo>
                  <a:pt x="1441" y="1380"/>
                </a:lnTo>
                <a:lnTo>
                  <a:pt x="1447" y="1380"/>
                </a:lnTo>
                <a:lnTo>
                  <a:pt x="1451" y="1385"/>
                </a:lnTo>
                <a:lnTo>
                  <a:pt x="1457" y="1385"/>
                </a:lnTo>
                <a:lnTo>
                  <a:pt x="1461" y="1389"/>
                </a:lnTo>
                <a:lnTo>
                  <a:pt x="1465" y="1389"/>
                </a:lnTo>
                <a:lnTo>
                  <a:pt x="1468" y="1391"/>
                </a:lnTo>
                <a:lnTo>
                  <a:pt x="1474" y="1391"/>
                </a:lnTo>
                <a:lnTo>
                  <a:pt x="1478" y="1393"/>
                </a:lnTo>
                <a:lnTo>
                  <a:pt x="1486" y="1393"/>
                </a:lnTo>
                <a:lnTo>
                  <a:pt x="1490" y="1398"/>
                </a:lnTo>
                <a:lnTo>
                  <a:pt x="1499" y="1398"/>
                </a:lnTo>
                <a:lnTo>
                  <a:pt x="1503" y="1402"/>
                </a:lnTo>
                <a:lnTo>
                  <a:pt x="1513" y="1402"/>
                </a:lnTo>
                <a:lnTo>
                  <a:pt x="1517" y="1404"/>
                </a:lnTo>
                <a:lnTo>
                  <a:pt x="1538" y="1404"/>
                </a:lnTo>
                <a:lnTo>
                  <a:pt x="1542" y="1408"/>
                </a:lnTo>
                <a:lnTo>
                  <a:pt x="1601" y="1408"/>
                </a:lnTo>
                <a:lnTo>
                  <a:pt x="1603" y="1404"/>
                </a:lnTo>
                <a:lnTo>
                  <a:pt x="1624" y="1404"/>
                </a:lnTo>
                <a:lnTo>
                  <a:pt x="1628" y="1402"/>
                </a:lnTo>
                <a:lnTo>
                  <a:pt x="1642" y="1402"/>
                </a:lnTo>
                <a:lnTo>
                  <a:pt x="1644" y="1398"/>
                </a:lnTo>
                <a:lnTo>
                  <a:pt x="1651" y="1398"/>
                </a:lnTo>
                <a:lnTo>
                  <a:pt x="1655" y="1393"/>
                </a:lnTo>
                <a:lnTo>
                  <a:pt x="1665" y="1393"/>
                </a:lnTo>
                <a:lnTo>
                  <a:pt x="1669" y="1391"/>
                </a:lnTo>
                <a:lnTo>
                  <a:pt x="1672" y="1391"/>
                </a:lnTo>
                <a:lnTo>
                  <a:pt x="1676" y="1389"/>
                </a:lnTo>
                <a:lnTo>
                  <a:pt x="1682" y="1389"/>
                </a:lnTo>
                <a:lnTo>
                  <a:pt x="1686" y="1385"/>
                </a:lnTo>
                <a:lnTo>
                  <a:pt x="1692" y="1385"/>
                </a:lnTo>
                <a:lnTo>
                  <a:pt x="1694" y="1380"/>
                </a:lnTo>
                <a:lnTo>
                  <a:pt x="1701" y="1380"/>
                </a:lnTo>
                <a:lnTo>
                  <a:pt x="1703" y="1378"/>
                </a:lnTo>
                <a:lnTo>
                  <a:pt x="1707" y="1378"/>
                </a:lnTo>
                <a:lnTo>
                  <a:pt x="1711" y="1374"/>
                </a:lnTo>
                <a:lnTo>
                  <a:pt x="1713" y="1374"/>
                </a:lnTo>
                <a:lnTo>
                  <a:pt x="1715" y="1370"/>
                </a:lnTo>
                <a:lnTo>
                  <a:pt x="1719" y="1370"/>
                </a:lnTo>
                <a:lnTo>
                  <a:pt x="1721" y="1367"/>
                </a:lnTo>
                <a:lnTo>
                  <a:pt x="1724" y="1367"/>
                </a:lnTo>
                <a:lnTo>
                  <a:pt x="1728" y="1363"/>
                </a:lnTo>
                <a:lnTo>
                  <a:pt x="1730" y="1363"/>
                </a:lnTo>
                <a:lnTo>
                  <a:pt x="1734" y="1359"/>
                </a:lnTo>
                <a:lnTo>
                  <a:pt x="1738" y="1359"/>
                </a:lnTo>
                <a:lnTo>
                  <a:pt x="1740" y="1357"/>
                </a:lnTo>
                <a:lnTo>
                  <a:pt x="1742" y="1357"/>
                </a:lnTo>
                <a:lnTo>
                  <a:pt x="1749" y="1350"/>
                </a:lnTo>
                <a:lnTo>
                  <a:pt x="1751" y="1350"/>
                </a:lnTo>
                <a:lnTo>
                  <a:pt x="1755" y="1348"/>
                </a:lnTo>
                <a:lnTo>
                  <a:pt x="1759" y="1348"/>
                </a:lnTo>
                <a:lnTo>
                  <a:pt x="1763" y="1339"/>
                </a:lnTo>
                <a:lnTo>
                  <a:pt x="1767" y="1339"/>
                </a:lnTo>
                <a:lnTo>
                  <a:pt x="1776" y="1329"/>
                </a:lnTo>
                <a:lnTo>
                  <a:pt x="1780" y="1329"/>
                </a:lnTo>
                <a:lnTo>
                  <a:pt x="1794" y="1314"/>
                </a:lnTo>
                <a:lnTo>
                  <a:pt x="1798" y="1314"/>
                </a:lnTo>
                <a:lnTo>
                  <a:pt x="1821" y="1286"/>
                </a:lnTo>
                <a:lnTo>
                  <a:pt x="1821" y="1283"/>
                </a:lnTo>
                <a:lnTo>
                  <a:pt x="1836" y="1264"/>
                </a:lnTo>
                <a:lnTo>
                  <a:pt x="1836" y="1262"/>
                </a:lnTo>
                <a:lnTo>
                  <a:pt x="1846" y="1253"/>
                </a:lnTo>
                <a:lnTo>
                  <a:pt x="1846" y="1249"/>
                </a:lnTo>
                <a:lnTo>
                  <a:pt x="1851" y="1243"/>
                </a:lnTo>
                <a:lnTo>
                  <a:pt x="1851" y="1238"/>
                </a:lnTo>
                <a:lnTo>
                  <a:pt x="1853" y="1234"/>
                </a:lnTo>
                <a:lnTo>
                  <a:pt x="1853" y="1232"/>
                </a:lnTo>
                <a:lnTo>
                  <a:pt x="1859" y="1223"/>
                </a:lnTo>
                <a:lnTo>
                  <a:pt x="1859" y="1221"/>
                </a:lnTo>
                <a:lnTo>
                  <a:pt x="1863" y="1219"/>
                </a:lnTo>
                <a:lnTo>
                  <a:pt x="1863" y="1215"/>
                </a:lnTo>
                <a:lnTo>
                  <a:pt x="1867" y="1210"/>
                </a:lnTo>
                <a:lnTo>
                  <a:pt x="1867" y="1208"/>
                </a:lnTo>
                <a:lnTo>
                  <a:pt x="1869" y="1204"/>
                </a:lnTo>
                <a:lnTo>
                  <a:pt x="1869" y="1199"/>
                </a:lnTo>
                <a:lnTo>
                  <a:pt x="1873" y="1197"/>
                </a:lnTo>
                <a:lnTo>
                  <a:pt x="1873" y="1193"/>
                </a:lnTo>
                <a:lnTo>
                  <a:pt x="1877" y="1189"/>
                </a:lnTo>
                <a:lnTo>
                  <a:pt x="1877" y="1184"/>
                </a:lnTo>
                <a:lnTo>
                  <a:pt x="1878" y="1180"/>
                </a:lnTo>
                <a:lnTo>
                  <a:pt x="1878" y="1178"/>
                </a:lnTo>
                <a:lnTo>
                  <a:pt x="1880" y="1174"/>
                </a:lnTo>
                <a:lnTo>
                  <a:pt x="1880" y="1163"/>
                </a:lnTo>
                <a:lnTo>
                  <a:pt x="1888" y="1167"/>
                </a:lnTo>
                <a:lnTo>
                  <a:pt x="1894" y="1169"/>
                </a:lnTo>
                <a:lnTo>
                  <a:pt x="1898" y="1174"/>
                </a:lnTo>
                <a:lnTo>
                  <a:pt x="1905" y="1178"/>
                </a:lnTo>
                <a:lnTo>
                  <a:pt x="1911" y="1180"/>
                </a:lnTo>
                <a:lnTo>
                  <a:pt x="1917" y="1184"/>
                </a:lnTo>
                <a:lnTo>
                  <a:pt x="1923" y="1189"/>
                </a:lnTo>
                <a:lnTo>
                  <a:pt x="1929" y="1189"/>
                </a:lnTo>
                <a:lnTo>
                  <a:pt x="1936" y="1193"/>
                </a:lnTo>
                <a:lnTo>
                  <a:pt x="1942" y="1193"/>
                </a:lnTo>
                <a:lnTo>
                  <a:pt x="1950" y="1197"/>
                </a:lnTo>
                <a:lnTo>
                  <a:pt x="1957" y="1199"/>
                </a:lnTo>
                <a:lnTo>
                  <a:pt x="1963" y="1204"/>
                </a:lnTo>
                <a:lnTo>
                  <a:pt x="1967" y="1204"/>
                </a:lnTo>
                <a:lnTo>
                  <a:pt x="1975" y="1208"/>
                </a:lnTo>
                <a:lnTo>
                  <a:pt x="1980" y="1210"/>
                </a:lnTo>
                <a:lnTo>
                  <a:pt x="1990" y="1210"/>
                </a:lnTo>
                <a:lnTo>
                  <a:pt x="1996" y="1215"/>
                </a:lnTo>
                <a:lnTo>
                  <a:pt x="2007" y="1215"/>
                </a:lnTo>
                <a:lnTo>
                  <a:pt x="2013" y="1219"/>
                </a:lnTo>
                <a:lnTo>
                  <a:pt x="2023" y="1219"/>
                </a:lnTo>
                <a:lnTo>
                  <a:pt x="2029" y="1221"/>
                </a:lnTo>
                <a:lnTo>
                  <a:pt x="2050" y="1221"/>
                </a:lnTo>
                <a:lnTo>
                  <a:pt x="2056" y="1223"/>
                </a:lnTo>
                <a:lnTo>
                  <a:pt x="2109" y="1223"/>
                </a:lnTo>
                <a:lnTo>
                  <a:pt x="2131" y="1221"/>
                </a:lnTo>
                <a:lnTo>
                  <a:pt x="2150" y="1221"/>
                </a:lnTo>
                <a:lnTo>
                  <a:pt x="2171" y="1215"/>
                </a:lnTo>
                <a:lnTo>
                  <a:pt x="2188" y="1210"/>
                </a:lnTo>
                <a:lnTo>
                  <a:pt x="2210" y="1204"/>
                </a:lnTo>
                <a:lnTo>
                  <a:pt x="2227" y="1197"/>
                </a:lnTo>
                <a:lnTo>
                  <a:pt x="2244" y="1189"/>
                </a:lnTo>
                <a:lnTo>
                  <a:pt x="2263" y="1184"/>
                </a:lnTo>
                <a:lnTo>
                  <a:pt x="2283" y="1174"/>
                </a:lnTo>
                <a:lnTo>
                  <a:pt x="2296" y="1163"/>
                </a:lnTo>
                <a:lnTo>
                  <a:pt x="2314" y="1154"/>
                </a:lnTo>
                <a:lnTo>
                  <a:pt x="2331" y="1139"/>
                </a:lnTo>
                <a:lnTo>
                  <a:pt x="2344" y="1124"/>
                </a:lnTo>
                <a:lnTo>
                  <a:pt x="2360" y="1115"/>
                </a:lnTo>
                <a:lnTo>
                  <a:pt x="2387" y="1085"/>
                </a:lnTo>
                <a:lnTo>
                  <a:pt x="2400" y="1068"/>
                </a:lnTo>
                <a:lnTo>
                  <a:pt x="2410" y="1055"/>
                </a:lnTo>
                <a:lnTo>
                  <a:pt x="2423" y="1038"/>
                </a:lnTo>
                <a:lnTo>
                  <a:pt x="2435" y="1021"/>
                </a:lnTo>
                <a:lnTo>
                  <a:pt x="2444" y="1003"/>
                </a:lnTo>
                <a:lnTo>
                  <a:pt x="2452" y="984"/>
                </a:lnTo>
                <a:lnTo>
                  <a:pt x="2460" y="965"/>
                </a:lnTo>
                <a:lnTo>
                  <a:pt x="2469" y="945"/>
                </a:lnTo>
                <a:lnTo>
                  <a:pt x="2473" y="924"/>
                </a:lnTo>
                <a:lnTo>
                  <a:pt x="2479" y="904"/>
                </a:lnTo>
                <a:lnTo>
                  <a:pt x="2483" y="885"/>
                </a:lnTo>
                <a:lnTo>
                  <a:pt x="2487" y="863"/>
                </a:lnTo>
                <a:lnTo>
                  <a:pt x="2489" y="844"/>
                </a:lnTo>
                <a:lnTo>
                  <a:pt x="2493" y="820"/>
                </a:lnTo>
                <a:lnTo>
                  <a:pt x="2493" y="764"/>
                </a:lnTo>
                <a:lnTo>
                  <a:pt x="2489" y="751"/>
                </a:lnTo>
                <a:lnTo>
                  <a:pt x="2487" y="734"/>
                </a:lnTo>
                <a:lnTo>
                  <a:pt x="2487" y="719"/>
                </a:lnTo>
                <a:lnTo>
                  <a:pt x="2483" y="704"/>
                </a:lnTo>
                <a:lnTo>
                  <a:pt x="2477" y="687"/>
                </a:lnTo>
                <a:lnTo>
                  <a:pt x="2473" y="674"/>
                </a:lnTo>
                <a:lnTo>
                  <a:pt x="2469" y="657"/>
                </a:lnTo>
                <a:lnTo>
                  <a:pt x="2466" y="644"/>
                </a:lnTo>
                <a:lnTo>
                  <a:pt x="2460" y="629"/>
                </a:lnTo>
                <a:lnTo>
                  <a:pt x="2452" y="616"/>
                </a:lnTo>
                <a:lnTo>
                  <a:pt x="2444" y="603"/>
                </a:lnTo>
                <a:lnTo>
                  <a:pt x="2439" y="585"/>
                </a:lnTo>
                <a:lnTo>
                  <a:pt x="2429" y="570"/>
                </a:lnTo>
                <a:lnTo>
                  <a:pt x="2423" y="560"/>
                </a:lnTo>
                <a:lnTo>
                  <a:pt x="2414" y="549"/>
                </a:lnTo>
                <a:lnTo>
                  <a:pt x="2404" y="534"/>
                </a:lnTo>
                <a:lnTo>
                  <a:pt x="2375" y="499"/>
                </a:lnTo>
                <a:lnTo>
                  <a:pt x="2362" y="491"/>
                </a:lnTo>
                <a:lnTo>
                  <a:pt x="2354" y="480"/>
                </a:lnTo>
                <a:lnTo>
                  <a:pt x="2342" y="469"/>
                </a:lnTo>
                <a:lnTo>
                  <a:pt x="2331" y="458"/>
                </a:lnTo>
                <a:lnTo>
                  <a:pt x="2317" y="450"/>
                </a:lnTo>
                <a:lnTo>
                  <a:pt x="2306" y="439"/>
                </a:lnTo>
                <a:lnTo>
                  <a:pt x="2290" y="433"/>
                </a:lnTo>
                <a:lnTo>
                  <a:pt x="2279" y="426"/>
                </a:lnTo>
                <a:lnTo>
                  <a:pt x="2263" y="420"/>
                </a:lnTo>
                <a:lnTo>
                  <a:pt x="2252" y="411"/>
                </a:lnTo>
                <a:lnTo>
                  <a:pt x="2237" y="405"/>
                </a:lnTo>
                <a:lnTo>
                  <a:pt x="2240" y="409"/>
                </a:lnTo>
                <a:lnTo>
                  <a:pt x="2240" y="398"/>
                </a:lnTo>
                <a:lnTo>
                  <a:pt x="2242" y="394"/>
                </a:lnTo>
                <a:lnTo>
                  <a:pt x="2242" y="340"/>
                </a:lnTo>
                <a:lnTo>
                  <a:pt x="2240" y="336"/>
                </a:lnTo>
                <a:lnTo>
                  <a:pt x="2240" y="320"/>
                </a:lnTo>
                <a:lnTo>
                  <a:pt x="2237" y="316"/>
                </a:lnTo>
                <a:lnTo>
                  <a:pt x="2237" y="305"/>
                </a:lnTo>
                <a:lnTo>
                  <a:pt x="2233" y="303"/>
                </a:lnTo>
                <a:lnTo>
                  <a:pt x="2233" y="295"/>
                </a:lnTo>
                <a:lnTo>
                  <a:pt x="2231" y="292"/>
                </a:lnTo>
                <a:lnTo>
                  <a:pt x="2231" y="286"/>
                </a:lnTo>
                <a:lnTo>
                  <a:pt x="2227" y="282"/>
                </a:lnTo>
                <a:lnTo>
                  <a:pt x="2227" y="275"/>
                </a:lnTo>
                <a:lnTo>
                  <a:pt x="2223" y="271"/>
                </a:lnTo>
                <a:lnTo>
                  <a:pt x="2223" y="269"/>
                </a:lnTo>
                <a:lnTo>
                  <a:pt x="2221" y="264"/>
                </a:lnTo>
                <a:lnTo>
                  <a:pt x="2221" y="260"/>
                </a:lnTo>
                <a:lnTo>
                  <a:pt x="2219" y="260"/>
                </a:lnTo>
                <a:lnTo>
                  <a:pt x="2219" y="256"/>
                </a:lnTo>
                <a:lnTo>
                  <a:pt x="2215" y="252"/>
                </a:lnTo>
                <a:lnTo>
                  <a:pt x="2215" y="249"/>
                </a:lnTo>
                <a:lnTo>
                  <a:pt x="2213" y="245"/>
                </a:lnTo>
                <a:lnTo>
                  <a:pt x="2213" y="241"/>
                </a:lnTo>
                <a:lnTo>
                  <a:pt x="2210" y="239"/>
                </a:lnTo>
                <a:lnTo>
                  <a:pt x="2210" y="234"/>
                </a:lnTo>
                <a:lnTo>
                  <a:pt x="2204" y="228"/>
                </a:lnTo>
                <a:lnTo>
                  <a:pt x="2204" y="226"/>
                </a:lnTo>
                <a:lnTo>
                  <a:pt x="2194" y="215"/>
                </a:lnTo>
                <a:lnTo>
                  <a:pt x="2194" y="211"/>
                </a:lnTo>
                <a:lnTo>
                  <a:pt x="2179" y="193"/>
                </a:lnTo>
                <a:lnTo>
                  <a:pt x="2179" y="191"/>
                </a:lnTo>
                <a:lnTo>
                  <a:pt x="2171" y="180"/>
                </a:lnTo>
                <a:lnTo>
                  <a:pt x="2167" y="180"/>
                </a:lnTo>
                <a:lnTo>
                  <a:pt x="2150" y="159"/>
                </a:lnTo>
                <a:lnTo>
                  <a:pt x="2146" y="159"/>
                </a:lnTo>
                <a:lnTo>
                  <a:pt x="2136" y="150"/>
                </a:lnTo>
                <a:lnTo>
                  <a:pt x="2134" y="150"/>
                </a:lnTo>
                <a:lnTo>
                  <a:pt x="2127" y="144"/>
                </a:lnTo>
                <a:lnTo>
                  <a:pt x="2125" y="144"/>
                </a:lnTo>
                <a:lnTo>
                  <a:pt x="2123" y="140"/>
                </a:lnTo>
                <a:lnTo>
                  <a:pt x="2119" y="140"/>
                </a:lnTo>
                <a:lnTo>
                  <a:pt x="2115" y="135"/>
                </a:lnTo>
                <a:lnTo>
                  <a:pt x="2113" y="135"/>
                </a:lnTo>
                <a:lnTo>
                  <a:pt x="2109" y="133"/>
                </a:lnTo>
                <a:lnTo>
                  <a:pt x="2106" y="133"/>
                </a:lnTo>
                <a:lnTo>
                  <a:pt x="2106" y="129"/>
                </a:lnTo>
                <a:lnTo>
                  <a:pt x="2102" y="129"/>
                </a:lnTo>
                <a:lnTo>
                  <a:pt x="2098" y="127"/>
                </a:lnTo>
                <a:lnTo>
                  <a:pt x="2096" y="127"/>
                </a:lnTo>
                <a:lnTo>
                  <a:pt x="2092" y="122"/>
                </a:lnTo>
                <a:lnTo>
                  <a:pt x="2088" y="122"/>
                </a:lnTo>
                <a:lnTo>
                  <a:pt x="2084" y="120"/>
                </a:lnTo>
                <a:lnTo>
                  <a:pt x="2081" y="120"/>
                </a:lnTo>
                <a:lnTo>
                  <a:pt x="2077" y="116"/>
                </a:lnTo>
                <a:lnTo>
                  <a:pt x="2071" y="116"/>
                </a:lnTo>
                <a:lnTo>
                  <a:pt x="2067" y="112"/>
                </a:lnTo>
                <a:lnTo>
                  <a:pt x="2061" y="112"/>
                </a:lnTo>
                <a:lnTo>
                  <a:pt x="2059" y="109"/>
                </a:lnTo>
                <a:lnTo>
                  <a:pt x="2050" y="109"/>
                </a:lnTo>
                <a:lnTo>
                  <a:pt x="2046" y="105"/>
                </a:lnTo>
                <a:lnTo>
                  <a:pt x="2036" y="105"/>
                </a:lnTo>
                <a:lnTo>
                  <a:pt x="2036" y="101"/>
                </a:lnTo>
                <a:lnTo>
                  <a:pt x="2017" y="101"/>
                </a:lnTo>
                <a:lnTo>
                  <a:pt x="2013" y="99"/>
                </a:lnTo>
                <a:lnTo>
                  <a:pt x="1957" y="99"/>
                </a:lnTo>
                <a:lnTo>
                  <a:pt x="1954" y="101"/>
                </a:lnTo>
                <a:lnTo>
                  <a:pt x="1936" y="101"/>
                </a:lnTo>
                <a:lnTo>
                  <a:pt x="1932" y="105"/>
                </a:lnTo>
                <a:lnTo>
                  <a:pt x="1923" y="105"/>
                </a:lnTo>
                <a:lnTo>
                  <a:pt x="1921" y="109"/>
                </a:lnTo>
                <a:lnTo>
                  <a:pt x="1911" y="109"/>
                </a:lnTo>
                <a:lnTo>
                  <a:pt x="1907" y="112"/>
                </a:lnTo>
                <a:lnTo>
                  <a:pt x="1902" y="112"/>
                </a:lnTo>
                <a:lnTo>
                  <a:pt x="1898" y="116"/>
                </a:lnTo>
                <a:lnTo>
                  <a:pt x="1894" y="116"/>
                </a:lnTo>
                <a:lnTo>
                  <a:pt x="1890" y="120"/>
                </a:lnTo>
                <a:lnTo>
                  <a:pt x="1884" y="120"/>
                </a:lnTo>
                <a:lnTo>
                  <a:pt x="1880" y="122"/>
                </a:lnTo>
                <a:lnTo>
                  <a:pt x="1878" y="122"/>
                </a:lnTo>
                <a:lnTo>
                  <a:pt x="1877" y="127"/>
                </a:lnTo>
                <a:lnTo>
                  <a:pt x="1873" y="127"/>
                </a:lnTo>
                <a:lnTo>
                  <a:pt x="1869" y="129"/>
                </a:lnTo>
                <a:lnTo>
                  <a:pt x="1867" y="129"/>
                </a:lnTo>
                <a:lnTo>
                  <a:pt x="1863" y="133"/>
                </a:lnTo>
                <a:lnTo>
                  <a:pt x="1859" y="133"/>
                </a:lnTo>
                <a:lnTo>
                  <a:pt x="1857" y="135"/>
                </a:lnTo>
                <a:lnTo>
                  <a:pt x="1853" y="135"/>
                </a:lnTo>
                <a:lnTo>
                  <a:pt x="1851" y="140"/>
                </a:lnTo>
                <a:lnTo>
                  <a:pt x="1848" y="140"/>
                </a:lnTo>
                <a:lnTo>
                  <a:pt x="1846" y="144"/>
                </a:lnTo>
                <a:lnTo>
                  <a:pt x="1842" y="144"/>
                </a:lnTo>
                <a:lnTo>
                  <a:pt x="1836" y="150"/>
                </a:lnTo>
                <a:lnTo>
                  <a:pt x="1832" y="150"/>
                </a:lnTo>
                <a:lnTo>
                  <a:pt x="1825" y="159"/>
                </a:lnTo>
                <a:lnTo>
                  <a:pt x="1821" y="159"/>
                </a:lnTo>
                <a:lnTo>
                  <a:pt x="1825" y="159"/>
                </a:lnTo>
                <a:lnTo>
                  <a:pt x="1815" y="146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1600" y="2514600"/>
            <a:ext cx="4262400" cy="3576600"/>
          </a:xfrm>
          <a:custGeom>
            <a:avLst/>
            <a:gdLst/>
            <a:ahLst/>
            <a:rect l="l" t="t" r="r" b="b"/>
            <a:pathLst>
              <a:path w="2685" h="2253">
                <a:moveTo>
                  <a:pt x="1955" y="215"/>
                </a:moveTo>
                <a:lnTo>
                  <a:pt x="1946" y="205"/>
                </a:lnTo>
                <a:lnTo>
                  <a:pt x="1938" y="196"/>
                </a:lnTo>
                <a:lnTo>
                  <a:pt x="1928" y="189"/>
                </a:lnTo>
                <a:lnTo>
                  <a:pt x="1919" y="180"/>
                </a:lnTo>
                <a:lnTo>
                  <a:pt x="1909" y="170"/>
                </a:lnTo>
                <a:lnTo>
                  <a:pt x="1903" y="164"/>
                </a:lnTo>
                <a:lnTo>
                  <a:pt x="1894" y="155"/>
                </a:lnTo>
                <a:lnTo>
                  <a:pt x="1884" y="148"/>
                </a:lnTo>
                <a:lnTo>
                  <a:pt x="1874" y="139"/>
                </a:lnTo>
                <a:lnTo>
                  <a:pt x="1863" y="136"/>
                </a:lnTo>
                <a:lnTo>
                  <a:pt x="1857" y="132"/>
                </a:lnTo>
                <a:lnTo>
                  <a:pt x="1847" y="126"/>
                </a:lnTo>
                <a:lnTo>
                  <a:pt x="1839" y="120"/>
                </a:lnTo>
                <a:lnTo>
                  <a:pt x="1828" y="110"/>
                </a:lnTo>
                <a:lnTo>
                  <a:pt x="1820" y="104"/>
                </a:lnTo>
                <a:lnTo>
                  <a:pt x="1809" y="101"/>
                </a:lnTo>
                <a:lnTo>
                  <a:pt x="1799" y="101"/>
                </a:lnTo>
                <a:lnTo>
                  <a:pt x="1789" y="94"/>
                </a:lnTo>
                <a:lnTo>
                  <a:pt x="1778" y="88"/>
                </a:lnTo>
                <a:lnTo>
                  <a:pt x="1770" y="85"/>
                </a:lnTo>
                <a:lnTo>
                  <a:pt x="1760" y="85"/>
                </a:lnTo>
                <a:lnTo>
                  <a:pt x="1749" y="82"/>
                </a:lnTo>
                <a:lnTo>
                  <a:pt x="1741" y="75"/>
                </a:lnTo>
                <a:lnTo>
                  <a:pt x="1731" y="75"/>
                </a:lnTo>
                <a:lnTo>
                  <a:pt x="1722" y="69"/>
                </a:lnTo>
                <a:lnTo>
                  <a:pt x="1700" y="69"/>
                </a:lnTo>
                <a:lnTo>
                  <a:pt x="1689" y="66"/>
                </a:lnTo>
                <a:lnTo>
                  <a:pt x="1610" y="66"/>
                </a:lnTo>
                <a:lnTo>
                  <a:pt x="1598" y="69"/>
                </a:lnTo>
                <a:lnTo>
                  <a:pt x="1573" y="69"/>
                </a:lnTo>
                <a:lnTo>
                  <a:pt x="1563" y="75"/>
                </a:lnTo>
                <a:lnTo>
                  <a:pt x="1550" y="75"/>
                </a:lnTo>
                <a:lnTo>
                  <a:pt x="1536" y="82"/>
                </a:lnTo>
                <a:lnTo>
                  <a:pt x="1525" y="85"/>
                </a:lnTo>
                <a:lnTo>
                  <a:pt x="1513" y="88"/>
                </a:lnTo>
                <a:lnTo>
                  <a:pt x="1503" y="94"/>
                </a:lnTo>
                <a:lnTo>
                  <a:pt x="1492" y="101"/>
                </a:lnTo>
                <a:lnTo>
                  <a:pt x="1482" y="104"/>
                </a:lnTo>
                <a:lnTo>
                  <a:pt x="1469" y="110"/>
                </a:lnTo>
                <a:lnTo>
                  <a:pt x="1459" y="117"/>
                </a:lnTo>
                <a:lnTo>
                  <a:pt x="1447" y="120"/>
                </a:lnTo>
                <a:lnTo>
                  <a:pt x="1436" y="132"/>
                </a:lnTo>
                <a:lnTo>
                  <a:pt x="1428" y="136"/>
                </a:lnTo>
                <a:lnTo>
                  <a:pt x="1418" y="139"/>
                </a:lnTo>
                <a:lnTo>
                  <a:pt x="1403" y="148"/>
                </a:lnTo>
                <a:lnTo>
                  <a:pt x="1395" y="161"/>
                </a:lnTo>
                <a:lnTo>
                  <a:pt x="1384" y="170"/>
                </a:lnTo>
                <a:lnTo>
                  <a:pt x="1374" y="177"/>
                </a:lnTo>
                <a:lnTo>
                  <a:pt x="1364" y="186"/>
                </a:lnTo>
                <a:lnTo>
                  <a:pt x="1353" y="196"/>
                </a:lnTo>
                <a:lnTo>
                  <a:pt x="1345" y="205"/>
                </a:lnTo>
                <a:lnTo>
                  <a:pt x="1335" y="221"/>
                </a:lnTo>
                <a:lnTo>
                  <a:pt x="1326" y="230"/>
                </a:lnTo>
                <a:lnTo>
                  <a:pt x="1316" y="240"/>
                </a:lnTo>
                <a:lnTo>
                  <a:pt x="1306" y="256"/>
                </a:lnTo>
                <a:lnTo>
                  <a:pt x="1297" y="265"/>
                </a:lnTo>
                <a:lnTo>
                  <a:pt x="1289" y="256"/>
                </a:lnTo>
                <a:lnTo>
                  <a:pt x="1287" y="243"/>
                </a:lnTo>
                <a:lnTo>
                  <a:pt x="1283" y="240"/>
                </a:lnTo>
                <a:lnTo>
                  <a:pt x="1283" y="234"/>
                </a:lnTo>
                <a:lnTo>
                  <a:pt x="1275" y="221"/>
                </a:lnTo>
                <a:lnTo>
                  <a:pt x="1275" y="215"/>
                </a:lnTo>
                <a:lnTo>
                  <a:pt x="1223" y="136"/>
                </a:lnTo>
                <a:lnTo>
                  <a:pt x="1219" y="136"/>
                </a:lnTo>
                <a:lnTo>
                  <a:pt x="1208" y="120"/>
                </a:lnTo>
                <a:lnTo>
                  <a:pt x="1204" y="120"/>
                </a:lnTo>
                <a:lnTo>
                  <a:pt x="1196" y="104"/>
                </a:lnTo>
                <a:lnTo>
                  <a:pt x="1194" y="104"/>
                </a:lnTo>
                <a:lnTo>
                  <a:pt x="1185" y="94"/>
                </a:lnTo>
                <a:lnTo>
                  <a:pt x="1183" y="94"/>
                </a:lnTo>
                <a:lnTo>
                  <a:pt x="1181" y="88"/>
                </a:lnTo>
                <a:lnTo>
                  <a:pt x="1177" y="88"/>
                </a:lnTo>
                <a:lnTo>
                  <a:pt x="1171" y="82"/>
                </a:lnTo>
                <a:lnTo>
                  <a:pt x="1167" y="82"/>
                </a:lnTo>
                <a:lnTo>
                  <a:pt x="1163" y="75"/>
                </a:lnTo>
                <a:lnTo>
                  <a:pt x="1161" y="75"/>
                </a:lnTo>
                <a:lnTo>
                  <a:pt x="1156" y="69"/>
                </a:lnTo>
                <a:lnTo>
                  <a:pt x="1154" y="69"/>
                </a:lnTo>
                <a:lnTo>
                  <a:pt x="1152" y="66"/>
                </a:lnTo>
                <a:lnTo>
                  <a:pt x="1148" y="66"/>
                </a:lnTo>
                <a:lnTo>
                  <a:pt x="1144" y="60"/>
                </a:lnTo>
                <a:lnTo>
                  <a:pt x="1142" y="60"/>
                </a:lnTo>
                <a:lnTo>
                  <a:pt x="1138" y="53"/>
                </a:lnTo>
                <a:lnTo>
                  <a:pt x="1134" y="53"/>
                </a:lnTo>
                <a:lnTo>
                  <a:pt x="1132" y="50"/>
                </a:lnTo>
                <a:lnTo>
                  <a:pt x="1125" y="50"/>
                </a:lnTo>
                <a:lnTo>
                  <a:pt x="1121" y="44"/>
                </a:lnTo>
                <a:lnTo>
                  <a:pt x="1119" y="44"/>
                </a:lnTo>
                <a:lnTo>
                  <a:pt x="1115" y="37"/>
                </a:lnTo>
                <a:lnTo>
                  <a:pt x="1109" y="37"/>
                </a:lnTo>
                <a:lnTo>
                  <a:pt x="1107" y="37"/>
                </a:lnTo>
                <a:lnTo>
                  <a:pt x="1098" y="37"/>
                </a:lnTo>
                <a:lnTo>
                  <a:pt x="1096" y="31"/>
                </a:lnTo>
                <a:lnTo>
                  <a:pt x="1088" y="31"/>
                </a:lnTo>
                <a:lnTo>
                  <a:pt x="1086" y="25"/>
                </a:lnTo>
                <a:lnTo>
                  <a:pt x="1078" y="25"/>
                </a:lnTo>
                <a:lnTo>
                  <a:pt x="1073" y="22"/>
                </a:lnTo>
                <a:lnTo>
                  <a:pt x="1063" y="22"/>
                </a:lnTo>
                <a:lnTo>
                  <a:pt x="1059" y="15"/>
                </a:lnTo>
                <a:lnTo>
                  <a:pt x="1051" y="15"/>
                </a:lnTo>
                <a:lnTo>
                  <a:pt x="1047" y="9"/>
                </a:lnTo>
                <a:lnTo>
                  <a:pt x="1032" y="9"/>
                </a:lnTo>
                <a:lnTo>
                  <a:pt x="1028" y="6"/>
                </a:lnTo>
                <a:lnTo>
                  <a:pt x="1005" y="6"/>
                </a:lnTo>
                <a:lnTo>
                  <a:pt x="1003" y="0"/>
                </a:lnTo>
                <a:lnTo>
                  <a:pt x="928" y="0"/>
                </a:lnTo>
                <a:lnTo>
                  <a:pt x="924" y="6"/>
                </a:lnTo>
                <a:lnTo>
                  <a:pt x="901" y="6"/>
                </a:lnTo>
                <a:lnTo>
                  <a:pt x="897" y="9"/>
                </a:lnTo>
                <a:lnTo>
                  <a:pt x="883" y="9"/>
                </a:lnTo>
                <a:lnTo>
                  <a:pt x="879" y="15"/>
                </a:lnTo>
                <a:lnTo>
                  <a:pt x="868" y="15"/>
                </a:lnTo>
                <a:lnTo>
                  <a:pt x="864" y="22"/>
                </a:lnTo>
                <a:lnTo>
                  <a:pt x="856" y="22"/>
                </a:lnTo>
                <a:lnTo>
                  <a:pt x="854" y="25"/>
                </a:lnTo>
                <a:lnTo>
                  <a:pt x="843" y="25"/>
                </a:lnTo>
                <a:lnTo>
                  <a:pt x="839" y="31"/>
                </a:lnTo>
                <a:lnTo>
                  <a:pt x="833" y="31"/>
                </a:lnTo>
                <a:lnTo>
                  <a:pt x="831" y="37"/>
                </a:lnTo>
                <a:lnTo>
                  <a:pt x="823" y="37"/>
                </a:lnTo>
                <a:lnTo>
                  <a:pt x="821" y="37"/>
                </a:lnTo>
                <a:lnTo>
                  <a:pt x="812" y="37"/>
                </a:lnTo>
                <a:lnTo>
                  <a:pt x="810" y="44"/>
                </a:lnTo>
                <a:lnTo>
                  <a:pt x="808" y="44"/>
                </a:lnTo>
                <a:lnTo>
                  <a:pt x="804" y="50"/>
                </a:lnTo>
                <a:lnTo>
                  <a:pt x="798" y="50"/>
                </a:lnTo>
                <a:lnTo>
                  <a:pt x="794" y="53"/>
                </a:lnTo>
                <a:lnTo>
                  <a:pt x="792" y="53"/>
                </a:lnTo>
                <a:lnTo>
                  <a:pt x="787" y="60"/>
                </a:lnTo>
                <a:lnTo>
                  <a:pt x="785" y="60"/>
                </a:lnTo>
                <a:lnTo>
                  <a:pt x="781" y="66"/>
                </a:lnTo>
                <a:lnTo>
                  <a:pt x="779" y="66"/>
                </a:lnTo>
                <a:lnTo>
                  <a:pt x="775" y="69"/>
                </a:lnTo>
                <a:lnTo>
                  <a:pt x="771" y="69"/>
                </a:lnTo>
                <a:lnTo>
                  <a:pt x="769" y="75"/>
                </a:lnTo>
                <a:lnTo>
                  <a:pt x="765" y="75"/>
                </a:lnTo>
                <a:lnTo>
                  <a:pt x="760" y="82"/>
                </a:lnTo>
                <a:lnTo>
                  <a:pt x="758" y="82"/>
                </a:lnTo>
                <a:lnTo>
                  <a:pt x="752" y="88"/>
                </a:lnTo>
                <a:lnTo>
                  <a:pt x="748" y="88"/>
                </a:lnTo>
                <a:lnTo>
                  <a:pt x="746" y="94"/>
                </a:lnTo>
                <a:lnTo>
                  <a:pt x="742" y="94"/>
                </a:lnTo>
                <a:lnTo>
                  <a:pt x="738" y="104"/>
                </a:lnTo>
                <a:lnTo>
                  <a:pt x="733" y="104"/>
                </a:lnTo>
                <a:lnTo>
                  <a:pt x="723" y="120"/>
                </a:lnTo>
                <a:lnTo>
                  <a:pt x="719" y="120"/>
                </a:lnTo>
                <a:lnTo>
                  <a:pt x="711" y="136"/>
                </a:lnTo>
                <a:lnTo>
                  <a:pt x="706" y="136"/>
                </a:lnTo>
                <a:lnTo>
                  <a:pt x="655" y="215"/>
                </a:lnTo>
                <a:lnTo>
                  <a:pt x="655" y="221"/>
                </a:lnTo>
                <a:lnTo>
                  <a:pt x="644" y="234"/>
                </a:lnTo>
                <a:lnTo>
                  <a:pt x="644" y="240"/>
                </a:lnTo>
                <a:lnTo>
                  <a:pt x="638" y="249"/>
                </a:lnTo>
                <a:lnTo>
                  <a:pt x="638" y="256"/>
                </a:lnTo>
                <a:lnTo>
                  <a:pt x="632" y="265"/>
                </a:lnTo>
                <a:lnTo>
                  <a:pt x="632" y="272"/>
                </a:lnTo>
                <a:lnTo>
                  <a:pt x="626" y="281"/>
                </a:lnTo>
                <a:lnTo>
                  <a:pt x="626" y="284"/>
                </a:lnTo>
                <a:lnTo>
                  <a:pt x="621" y="294"/>
                </a:lnTo>
                <a:lnTo>
                  <a:pt x="621" y="300"/>
                </a:lnTo>
                <a:lnTo>
                  <a:pt x="545" y="291"/>
                </a:lnTo>
                <a:lnTo>
                  <a:pt x="514" y="291"/>
                </a:lnTo>
                <a:lnTo>
                  <a:pt x="489" y="294"/>
                </a:lnTo>
                <a:lnTo>
                  <a:pt x="462" y="300"/>
                </a:lnTo>
                <a:lnTo>
                  <a:pt x="435" y="306"/>
                </a:lnTo>
                <a:lnTo>
                  <a:pt x="408" y="316"/>
                </a:lnTo>
                <a:lnTo>
                  <a:pt x="383" y="325"/>
                </a:lnTo>
                <a:lnTo>
                  <a:pt x="356" y="335"/>
                </a:lnTo>
                <a:lnTo>
                  <a:pt x="333" y="351"/>
                </a:lnTo>
                <a:lnTo>
                  <a:pt x="308" y="367"/>
                </a:lnTo>
                <a:lnTo>
                  <a:pt x="286" y="382"/>
                </a:lnTo>
                <a:lnTo>
                  <a:pt x="263" y="405"/>
                </a:lnTo>
                <a:lnTo>
                  <a:pt x="240" y="427"/>
                </a:lnTo>
                <a:lnTo>
                  <a:pt x="217" y="446"/>
                </a:lnTo>
                <a:lnTo>
                  <a:pt x="196" y="471"/>
                </a:lnTo>
                <a:lnTo>
                  <a:pt x="178" y="493"/>
                </a:lnTo>
                <a:lnTo>
                  <a:pt x="159" y="522"/>
                </a:lnTo>
                <a:lnTo>
                  <a:pt x="122" y="575"/>
                </a:lnTo>
                <a:lnTo>
                  <a:pt x="107" y="604"/>
                </a:lnTo>
                <a:lnTo>
                  <a:pt x="93" y="635"/>
                </a:lnTo>
                <a:lnTo>
                  <a:pt x="78" y="664"/>
                </a:lnTo>
                <a:lnTo>
                  <a:pt x="66" y="699"/>
                </a:lnTo>
                <a:lnTo>
                  <a:pt x="55" y="727"/>
                </a:lnTo>
                <a:lnTo>
                  <a:pt x="43" y="765"/>
                </a:lnTo>
                <a:lnTo>
                  <a:pt x="33" y="800"/>
                </a:lnTo>
                <a:lnTo>
                  <a:pt x="26" y="838"/>
                </a:lnTo>
                <a:lnTo>
                  <a:pt x="16" y="873"/>
                </a:lnTo>
                <a:lnTo>
                  <a:pt x="10" y="917"/>
                </a:lnTo>
                <a:lnTo>
                  <a:pt x="6" y="949"/>
                </a:lnTo>
                <a:lnTo>
                  <a:pt x="4" y="990"/>
                </a:lnTo>
                <a:lnTo>
                  <a:pt x="0" y="1028"/>
                </a:lnTo>
                <a:lnTo>
                  <a:pt x="0" y="1110"/>
                </a:lnTo>
                <a:lnTo>
                  <a:pt x="4" y="1151"/>
                </a:lnTo>
                <a:lnTo>
                  <a:pt x="6" y="1189"/>
                </a:lnTo>
                <a:lnTo>
                  <a:pt x="10" y="1224"/>
                </a:lnTo>
                <a:lnTo>
                  <a:pt x="16" y="1262"/>
                </a:lnTo>
                <a:lnTo>
                  <a:pt x="26" y="1300"/>
                </a:lnTo>
                <a:lnTo>
                  <a:pt x="33" y="1338"/>
                </a:lnTo>
                <a:lnTo>
                  <a:pt x="43" y="1373"/>
                </a:lnTo>
                <a:lnTo>
                  <a:pt x="55" y="1408"/>
                </a:lnTo>
                <a:lnTo>
                  <a:pt x="66" y="1439"/>
                </a:lnTo>
                <a:lnTo>
                  <a:pt x="78" y="1474"/>
                </a:lnTo>
                <a:lnTo>
                  <a:pt x="93" y="1502"/>
                </a:lnTo>
                <a:lnTo>
                  <a:pt x="107" y="1534"/>
                </a:lnTo>
                <a:lnTo>
                  <a:pt x="122" y="1563"/>
                </a:lnTo>
                <a:lnTo>
                  <a:pt x="159" y="1620"/>
                </a:lnTo>
                <a:lnTo>
                  <a:pt x="178" y="1645"/>
                </a:lnTo>
                <a:lnTo>
                  <a:pt x="196" y="1667"/>
                </a:lnTo>
                <a:lnTo>
                  <a:pt x="217" y="1695"/>
                </a:lnTo>
                <a:lnTo>
                  <a:pt x="240" y="1714"/>
                </a:lnTo>
                <a:lnTo>
                  <a:pt x="263" y="1733"/>
                </a:lnTo>
                <a:lnTo>
                  <a:pt x="286" y="1752"/>
                </a:lnTo>
                <a:lnTo>
                  <a:pt x="308" y="1775"/>
                </a:lnTo>
                <a:lnTo>
                  <a:pt x="333" y="1790"/>
                </a:lnTo>
                <a:lnTo>
                  <a:pt x="356" y="1803"/>
                </a:lnTo>
                <a:lnTo>
                  <a:pt x="383" y="1813"/>
                </a:lnTo>
                <a:lnTo>
                  <a:pt x="408" y="1825"/>
                </a:lnTo>
                <a:lnTo>
                  <a:pt x="435" y="1835"/>
                </a:lnTo>
                <a:lnTo>
                  <a:pt x="462" y="1841"/>
                </a:lnTo>
                <a:lnTo>
                  <a:pt x="489" y="1844"/>
                </a:lnTo>
                <a:lnTo>
                  <a:pt x="514" y="1847"/>
                </a:lnTo>
                <a:lnTo>
                  <a:pt x="545" y="1847"/>
                </a:lnTo>
                <a:lnTo>
                  <a:pt x="603" y="1844"/>
                </a:lnTo>
                <a:lnTo>
                  <a:pt x="607" y="1844"/>
                </a:lnTo>
                <a:lnTo>
                  <a:pt x="611" y="1869"/>
                </a:lnTo>
                <a:lnTo>
                  <a:pt x="621" y="1888"/>
                </a:lnTo>
                <a:lnTo>
                  <a:pt x="632" y="1914"/>
                </a:lnTo>
                <a:lnTo>
                  <a:pt x="642" y="1933"/>
                </a:lnTo>
                <a:lnTo>
                  <a:pt x="653" y="1952"/>
                </a:lnTo>
                <a:lnTo>
                  <a:pt x="663" y="1974"/>
                </a:lnTo>
                <a:lnTo>
                  <a:pt x="671" y="1993"/>
                </a:lnTo>
                <a:lnTo>
                  <a:pt x="684" y="2012"/>
                </a:lnTo>
                <a:lnTo>
                  <a:pt x="694" y="2034"/>
                </a:lnTo>
                <a:lnTo>
                  <a:pt x="706" y="2047"/>
                </a:lnTo>
                <a:lnTo>
                  <a:pt x="719" y="2069"/>
                </a:lnTo>
                <a:lnTo>
                  <a:pt x="733" y="2085"/>
                </a:lnTo>
                <a:lnTo>
                  <a:pt x="746" y="2097"/>
                </a:lnTo>
                <a:lnTo>
                  <a:pt x="758" y="2113"/>
                </a:lnTo>
                <a:lnTo>
                  <a:pt x="775" y="2129"/>
                </a:lnTo>
                <a:lnTo>
                  <a:pt x="787" y="2142"/>
                </a:lnTo>
                <a:lnTo>
                  <a:pt x="804" y="2154"/>
                </a:lnTo>
                <a:lnTo>
                  <a:pt x="816" y="2170"/>
                </a:lnTo>
                <a:lnTo>
                  <a:pt x="833" y="2180"/>
                </a:lnTo>
                <a:lnTo>
                  <a:pt x="850" y="2186"/>
                </a:lnTo>
                <a:lnTo>
                  <a:pt x="864" y="2199"/>
                </a:lnTo>
                <a:lnTo>
                  <a:pt x="883" y="2208"/>
                </a:lnTo>
                <a:lnTo>
                  <a:pt x="897" y="2218"/>
                </a:lnTo>
                <a:lnTo>
                  <a:pt x="914" y="2224"/>
                </a:lnTo>
                <a:lnTo>
                  <a:pt x="930" y="2233"/>
                </a:lnTo>
                <a:lnTo>
                  <a:pt x="947" y="2237"/>
                </a:lnTo>
                <a:lnTo>
                  <a:pt x="966" y="2243"/>
                </a:lnTo>
                <a:lnTo>
                  <a:pt x="982" y="2249"/>
                </a:lnTo>
                <a:lnTo>
                  <a:pt x="1003" y="2249"/>
                </a:lnTo>
                <a:lnTo>
                  <a:pt x="1017" y="2252"/>
                </a:lnTo>
                <a:lnTo>
                  <a:pt x="1082" y="2252"/>
                </a:lnTo>
                <a:lnTo>
                  <a:pt x="1098" y="2249"/>
                </a:lnTo>
                <a:lnTo>
                  <a:pt x="1115" y="2249"/>
                </a:lnTo>
                <a:lnTo>
                  <a:pt x="1129" y="2243"/>
                </a:lnTo>
                <a:lnTo>
                  <a:pt x="1144" y="2243"/>
                </a:lnTo>
                <a:lnTo>
                  <a:pt x="1161" y="2237"/>
                </a:lnTo>
                <a:lnTo>
                  <a:pt x="1173" y="2233"/>
                </a:lnTo>
                <a:lnTo>
                  <a:pt x="1185" y="2230"/>
                </a:lnTo>
                <a:lnTo>
                  <a:pt x="1204" y="2224"/>
                </a:lnTo>
                <a:lnTo>
                  <a:pt x="1217" y="2214"/>
                </a:lnTo>
                <a:lnTo>
                  <a:pt x="1229" y="2208"/>
                </a:lnTo>
                <a:lnTo>
                  <a:pt x="1246" y="2199"/>
                </a:lnTo>
                <a:lnTo>
                  <a:pt x="1258" y="2192"/>
                </a:lnTo>
                <a:lnTo>
                  <a:pt x="1270" y="2186"/>
                </a:lnTo>
                <a:lnTo>
                  <a:pt x="1283" y="2173"/>
                </a:lnTo>
                <a:lnTo>
                  <a:pt x="1297" y="2164"/>
                </a:lnTo>
                <a:lnTo>
                  <a:pt x="1310" y="2154"/>
                </a:lnTo>
                <a:lnTo>
                  <a:pt x="1320" y="2142"/>
                </a:lnTo>
                <a:lnTo>
                  <a:pt x="1333" y="2129"/>
                </a:lnTo>
                <a:lnTo>
                  <a:pt x="1345" y="2119"/>
                </a:lnTo>
                <a:lnTo>
                  <a:pt x="1353" y="2104"/>
                </a:lnTo>
                <a:lnTo>
                  <a:pt x="1368" y="2091"/>
                </a:lnTo>
                <a:lnTo>
                  <a:pt x="1378" y="2078"/>
                </a:lnTo>
                <a:lnTo>
                  <a:pt x="1391" y="2062"/>
                </a:lnTo>
                <a:lnTo>
                  <a:pt x="1428" y="2002"/>
                </a:lnTo>
                <a:lnTo>
                  <a:pt x="1438" y="1983"/>
                </a:lnTo>
                <a:lnTo>
                  <a:pt x="1449" y="1968"/>
                </a:lnTo>
                <a:lnTo>
                  <a:pt x="1459" y="1949"/>
                </a:lnTo>
                <a:lnTo>
                  <a:pt x="1469" y="1952"/>
                </a:lnTo>
                <a:lnTo>
                  <a:pt x="1472" y="1952"/>
                </a:lnTo>
                <a:lnTo>
                  <a:pt x="1482" y="1968"/>
                </a:lnTo>
                <a:lnTo>
                  <a:pt x="1484" y="1968"/>
                </a:lnTo>
                <a:lnTo>
                  <a:pt x="1492" y="1980"/>
                </a:lnTo>
                <a:lnTo>
                  <a:pt x="1494" y="1980"/>
                </a:lnTo>
                <a:lnTo>
                  <a:pt x="1498" y="1983"/>
                </a:lnTo>
                <a:lnTo>
                  <a:pt x="1503" y="1983"/>
                </a:lnTo>
                <a:lnTo>
                  <a:pt x="1507" y="1993"/>
                </a:lnTo>
                <a:lnTo>
                  <a:pt x="1511" y="1993"/>
                </a:lnTo>
                <a:lnTo>
                  <a:pt x="1513" y="1996"/>
                </a:lnTo>
                <a:lnTo>
                  <a:pt x="1517" y="1996"/>
                </a:lnTo>
                <a:lnTo>
                  <a:pt x="1521" y="2002"/>
                </a:lnTo>
                <a:lnTo>
                  <a:pt x="1523" y="2002"/>
                </a:lnTo>
                <a:lnTo>
                  <a:pt x="1525" y="2009"/>
                </a:lnTo>
                <a:lnTo>
                  <a:pt x="1530" y="2009"/>
                </a:lnTo>
                <a:lnTo>
                  <a:pt x="1534" y="2012"/>
                </a:lnTo>
                <a:lnTo>
                  <a:pt x="1536" y="2012"/>
                </a:lnTo>
                <a:lnTo>
                  <a:pt x="1540" y="2018"/>
                </a:lnTo>
                <a:lnTo>
                  <a:pt x="1544" y="2018"/>
                </a:lnTo>
                <a:lnTo>
                  <a:pt x="1546" y="2025"/>
                </a:lnTo>
                <a:lnTo>
                  <a:pt x="1550" y="2025"/>
                </a:lnTo>
                <a:lnTo>
                  <a:pt x="1552" y="2028"/>
                </a:lnTo>
                <a:lnTo>
                  <a:pt x="1559" y="2028"/>
                </a:lnTo>
                <a:lnTo>
                  <a:pt x="1563" y="2034"/>
                </a:lnTo>
                <a:lnTo>
                  <a:pt x="1569" y="2034"/>
                </a:lnTo>
                <a:lnTo>
                  <a:pt x="1573" y="2040"/>
                </a:lnTo>
                <a:lnTo>
                  <a:pt x="1577" y="2040"/>
                </a:lnTo>
                <a:lnTo>
                  <a:pt x="1581" y="2044"/>
                </a:lnTo>
                <a:lnTo>
                  <a:pt x="1588" y="2044"/>
                </a:lnTo>
                <a:lnTo>
                  <a:pt x="1592" y="2047"/>
                </a:lnTo>
                <a:lnTo>
                  <a:pt x="1600" y="2047"/>
                </a:lnTo>
                <a:lnTo>
                  <a:pt x="1604" y="2053"/>
                </a:lnTo>
                <a:lnTo>
                  <a:pt x="1615" y="2053"/>
                </a:lnTo>
                <a:lnTo>
                  <a:pt x="1619" y="2059"/>
                </a:lnTo>
                <a:lnTo>
                  <a:pt x="1629" y="2059"/>
                </a:lnTo>
                <a:lnTo>
                  <a:pt x="1633" y="2062"/>
                </a:lnTo>
                <a:lnTo>
                  <a:pt x="1656" y="2062"/>
                </a:lnTo>
                <a:lnTo>
                  <a:pt x="1660" y="2069"/>
                </a:lnTo>
                <a:lnTo>
                  <a:pt x="1724" y="2069"/>
                </a:lnTo>
                <a:lnTo>
                  <a:pt x="1727" y="2062"/>
                </a:lnTo>
                <a:lnTo>
                  <a:pt x="1749" y="2062"/>
                </a:lnTo>
                <a:lnTo>
                  <a:pt x="1754" y="2059"/>
                </a:lnTo>
                <a:lnTo>
                  <a:pt x="1768" y="2059"/>
                </a:lnTo>
                <a:lnTo>
                  <a:pt x="1770" y="2053"/>
                </a:lnTo>
                <a:lnTo>
                  <a:pt x="1778" y="2053"/>
                </a:lnTo>
                <a:lnTo>
                  <a:pt x="1783" y="2047"/>
                </a:lnTo>
                <a:lnTo>
                  <a:pt x="1793" y="2047"/>
                </a:lnTo>
                <a:lnTo>
                  <a:pt x="1797" y="2044"/>
                </a:lnTo>
                <a:lnTo>
                  <a:pt x="1801" y="2044"/>
                </a:lnTo>
                <a:lnTo>
                  <a:pt x="1805" y="2040"/>
                </a:lnTo>
                <a:lnTo>
                  <a:pt x="1812" y="2040"/>
                </a:lnTo>
                <a:lnTo>
                  <a:pt x="1816" y="2034"/>
                </a:lnTo>
                <a:lnTo>
                  <a:pt x="1822" y="2034"/>
                </a:lnTo>
                <a:lnTo>
                  <a:pt x="1824" y="2028"/>
                </a:lnTo>
                <a:lnTo>
                  <a:pt x="1832" y="2028"/>
                </a:lnTo>
                <a:lnTo>
                  <a:pt x="1834" y="2025"/>
                </a:lnTo>
                <a:lnTo>
                  <a:pt x="1839" y="2025"/>
                </a:lnTo>
                <a:lnTo>
                  <a:pt x="1843" y="2018"/>
                </a:lnTo>
                <a:lnTo>
                  <a:pt x="1845" y="2018"/>
                </a:lnTo>
                <a:lnTo>
                  <a:pt x="1847" y="2012"/>
                </a:lnTo>
                <a:lnTo>
                  <a:pt x="1851" y="2012"/>
                </a:lnTo>
                <a:lnTo>
                  <a:pt x="1853" y="2009"/>
                </a:lnTo>
                <a:lnTo>
                  <a:pt x="1857" y="2009"/>
                </a:lnTo>
                <a:lnTo>
                  <a:pt x="1861" y="2002"/>
                </a:lnTo>
                <a:lnTo>
                  <a:pt x="1863" y="2002"/>
                </a:lnTo>
                <a:lnTo>
                  <a:pt x="1868" y="1996"/>
                </a:lnTo>
                <a:lnTo>
                  <a:pt x="1872" y="1996"/>
                </a:lnTo>
                <a:lnTo>
                  <a:pt x="1874" y="1993"/>
                </a:lnTo>
                <a:lnTo>
                  <a:pt x="1876" y="1993"/>
                </a:lnTo>
                <a:lnTo>
                  <a:pt x="1884" y="1983"/>
                </a:lnTo>
                <a:lnTo>
                  <a:pt x="1886" y="1983"/>
                </a:lnTo>
                <a:lnTo>
                  <a:pt x="1890" y="1980"/>
                </a:lnTo>
                <a:lnTo>
                  <a:pt x="1894" y="1980"/>
                </a:lnTo>
                <a:lnTo>
                  <a:pt x="1899" y="1968"/>
                </a:lnTo>
                <a:lnTo>
                  <a:pt x="1903" y="1968"/>
                </a:lnTo>
                <a:lnTo>
                  <a:pt x="1913" y="1952"/>
                </a:lnTo>
                <a:lnTo>
                  <a:pt x="1917" y="1952"/>
                </a:lnTo>
                <a:lnTo>
                  <a:pt x="1932" y="1930"/>
                </a:lnTo>
                <a:lnTo>
                  <a:pt x="1936" y="1930"/>
                </a:lnTo>
                <a:lnTo>
                  <a:pt x="1961" y="1888"/>
                </a:lnTo>
                <a:lnTo>
                  <a:pt x="1961" y="1885"/>
                </a:lnTo>
                <a:lnTo>
                  <a:pt x="1977" y="1857"/>
                </a:lnTo>
                <a:lnTo>
                  <a:pt x="1977" y="1854"/>
                </a:lnTo>
                <a:lnTo>
                  <a:pt x="1988" y="1841"/>
                </a:lnTo>
                <a:lnTo>
                  <a:pt x="1988" y="1835"/>
                </a:lnTo>
                <a:lnTo>
                  <a:pt x="1994" y="1825"/>
                </a:lnTo>
                <a:lnTo>
                  <a:pt x="1994" y="1819"/>
                </a:lnTo>
                <a:lnTo>
                  <a:pt x="1996" y="1813"/>
                </a:lnTo>
                <a:lnTo>
                  <a:pt x="1996" y="1809"/>
                </a:lnTo>
                <a:lnTo>
                  <a:pt x="2002" y="1797"/>
                </a:lnTo>
                <a:lnTo>
                  <a:pt x="2002" y="1794"/>
                </a:lnTo>
                <a:lnTo>
                  <a:pt x="2006" y="1790"/>
                </a:lnTo>
                <a:lnTo>
                  <a:pt x="2006" y="1784"/>
                </a:lnTo>
                <a:lnTo>
                  <a:pt x="2011" y="1778"/>
                </a:lnTo>
                <a:lnTo>
                  <a:pt x="2011" y="1775"/>
                </a:lnTo>
                <a:lnTo>
                  <a:pt x="2013" y="1768"/>
                </a:lnTo>
                <a:lnTo>
                  <a:pt x="2013" y="1762"/>
                </a:lnTo>
                <a:lnTo>
                  <a:pt x="2017" y="1759"/>
                </a:lnTo>
                <a:lnTo>
                  <a:pt x="2017" y="1752"/>
                </a:lnTo>
                <a:lnTo>
                  <a:pt x="2021" y="1746"/>
                </a:lnTo>
                <a:lnTo>
                  <a:pt x="2021" y="1740"/>
                </a:lnTo>
                <a:lnTo>
                  <a:pt x="2023" y="1733"/>
                </a:lnTo>
                <a:lnTo>
                  <a:pt x="2023" y="1730"/>
                </a:lnTo>
                <a:lnTo>
                  <a:pt x="2025" y="1724"/>
                </a:lnTo>
                <a:lnTo>
                  <a:pt x="2025" y="1708"/>
                </a:lnTo>
                <a:lnTo>
                  <a:pt x="2033" y="1714"/>
                </a:lnTo>
                <a:lnTo>
                  <a:pt x="2040" y="1718"/>
                </a:lnTo>
                <a:lnTo>
                  <a:pt x="2044" y="1724"/>
                </a:lnTo>
                <a:lnTo>
                  <a:pt x="2052" y="1730"/>
                </a:lnTo>
                <a:lnTo>
                  <a:pt x="2058" y="1733"/>
                </a:lnTo>
                <a:lnTo>
                  <a:pt x="2065" y="1740"/>
                </a:lnTo>
                <a:lnTo>
                  <a:pt x="2071" y="1746"/>
                </a:lnTo>
                <a:lnTo>
                  <a:pt x="2077" y="1746"/>
                </a:lnTo>
                <a:lnTo>
                  <a:pt x="2085" y="1752"/>
                </a:lnTo>
                <a:lnTo>
                  <a:pt x="2091" y="1752"/>
                </a:lnTo>
                <a:lnTo>
                  <a:pt x="2100" y="1759"/>
                </a:lnTo>
                <a:lnTo>
                  <a:pt x="2108" y="1762"/>
                </a:lnTo>
                <a:lnTo>
                  <a:pt x="2114" y="1768"/>
                </a:lnTo>
                <a:lnTo>
                  <a:pt x="2118" y="1768"/>
                </a:lnTo>
                <a:lnTo>
                  <a:pt x="2127" y="1775"/>
                </a:lnTo>
                <a:lnTo>
                  <a:pt x="2133" y="1778"/>
                </a:lnTo>
                <a:lnTo>
                  <a:pt x="2143" y="1778"/>
                </a:lnTo>
                <a:lnTo>
                  <a:pt x="2150" y="1784"/>
                </a:lnTo>
                <a:lnTo>
                  <a:pt x="2162" y="1784"/>
                </a:lnTo>
                <a:lnTo>
                  <a:pt x="2168" y="1790"/>
                </a:lnTo>
                <a:lnTo>
                  <a:pt x="2179" y="1790"/>
                </a:lnTo>
                <a:lnTo>
                  <a:pt x="2185" y="1794"/>
                </a:lnTo>
                <a:lnTo>
                  <a:pt x="2208" y="1794"/>
                </a:lnTo>
                <a:lnTo>
                  <a:pt x="2214" y="1797"/>
                </a:lnTo>
                <a:lnTo>
                  <a:pt x="2272" y="1797"/>
                </a:lnTo>
                <a:lnTo>
                  <a:pt x="2295" y="1794"/>
                </a:lnTo>
                <a:lnTo>
                  <a:pt x="2315" y="1794"/>
                </a:lnTo>
                <a:lnTo>
                  <a:pt x="2338" y="1784"/>
                </a:lnTo>
                <a:lnTo>
                  <a:pt x="2357" y="1778"/>
                </a:lnTo>
                <a:lnTo>
                  <a:pt x="2380" y="1768"/>
                </a:lnTo>
                <a:lnTo>
                  <a:pt x="2398" y="1759"/>
                </a:lnTo>
                <a:lnTo>
                  <a:pt x="2417" y="1746"/>
                </a:lnTo>
                <a:lnTo>
                  <a:pt x="2438" y="1740"/>
                </a:lnTo>
                <a:lnTo>
                  <a:pt x="2458" y="1724"/>
                </a:lnTo>
                <a:lnTo>
                  <a:pt x="2473" y="1708"/>
                </a:lnTo>
                <a:lnTo>
                  <a:pt x="2492" y="1695"/>
                </a:lnTo>
                <a:lnTo>
                  <a:pt x="2510" y="1673"/>
                </a:lnTo>
                <a:lnTo>
                  <a:pt x="2525" y="1651"/>
                </a:lnTo>
                <a:lnTo>
                  <a:pt x="2541" y="1639"/>
                </a:lnTo>
                <a:lnTo>
                  <a:pt x="2570" y="1594"/>
                </a:lnTo>
                <a:lnTo>
                  <a:pt x="2585" y="1569"/>
                </a:lnTo>
                <a:lnTo>
                  <a:pt x="2595" y="1550"/>
                </a:lnTo>
                <a:lnTo>
                  <a:pt x="2610" y="1525"/>
                </a:lnTo>
                <a:lnTo>
                  <a:pt x="2622" y="1499"/>
                </a:lnTo>
                <a:lnTo>
                  <a:pt x="2633" y="1474"/>
                </a:lnTo>
                <a:lnTo>
                  <a:pt x="2641" y="1445"/>
                </a:lnTo>
                <a:lnTo>
                  <a:pt x="2649" y="1417"/>
                </a:lnTo>
                <a:lnTo>
                  <a:pt x="2660" y="1389"/>
                </a:lnTo>
                <a:lnTo>
                  <a:pt x="2664" y="1357"/>
                </a:lnTo>
                <a:lnTo>
                  <a:pt x="2670" y="1328"/>
                </a:lnTo>
                <a:lnTo>
                  <a:pt x="2674" y="1300"/>
                </a:lnTo>
                <a:lnTo>
                  <a:pt x="2678" y="1268"/>
                </a:lnTo>
                <a:lnTo>
                  <a:pt x="2680" y="1240"/>
                </a:lnTo>
                <a:lnTo>
                  <a:pt x="2684" y="1205"/>
                </a:lnTo>
                <a:lnTo>
                  <a:pt x="2684" y="1123"/>
                </a:lnTo>
                <a:lnTo>
                  <a:pt x="2680" y="1104"/>
                </a:lnTo>
                <a:lnTo>
                  <a:pt x="2678" y="1078"/>
                </a:lnTo>
                <a:lnTo>
                  <a:pt x="2678" y="1056"/>
                </a:lnTo>
                <a:lnTo>
                  <a:pt x="2674" y="1034"/>
                </a:lnTo>
                <a:lnTo>
                  <a:pt x="2668" y="1009"/>
                </a:lnTo>
                <a:lnTo>
                  <a:pt x="2664" y="990"/>
                </a:lnTo>
                <a:lnTo>
                  <a:pt x="2660" y="965"/>
                </a:lnTo>
                <a:lnTo>
                  <a:pt x="2655" y="946"/>
                </a:lnTo>
                <a:lnTo>
                  <a:pt x="2649" y="923"/>
                </a:lnTo>
                <a:lnTo>
                  <a:pt x="2641" y="904"/>
                </a:lnTo>
                <a:lnTo>
                  <a:pt x="2633" y="885"/>
                </a:lnTo>
                <a:lnTo>
                  <a:pt x="2626" y="860"/>
                </a:lnTo>
                <a:lnTo>
                  <a:pt x="2616" y="838"/>
                </a:lnTo>
                <a:lnTo>
                  <a:pt x="2610" y="822"/>
                </a:lnTo>
                <a:lnTo>
                  <a:pt x="2599" y="806"/>
                </a:lnTo>
                <a:lnTo>
                  <a:pt x="2589" y="784"/>
                </a:lnTo>
                <a:lnTo>
                  <a:pt x="2558" y="734"/>
                </a:lnTo>
                <a:lnTo>
                  <a:pt x="2543" y="721"/>
                </a:lnTo>
                <a:lnTo>
                  <a:pt x="2535" y="705"/>
                </a:lnTo>
                <a:lnTo>
                  <a:pt x="2523" y="689"/>
                </a:lnTo>
                <a:lnTo>
                  <a:pt x="2510" y="673"/>
                </a:lnTo>
                <a:lnTo>
                  <a:pt x="2496" y="661"/>
                </a:lnTo>
                <a:lnTo>
                  <a:pt x="2483" y="645"/>
                </a:lnTo>
                <a:lnTo>
                  <a:pt x="2467" y="635"/>
                </a:lnTo>
                <a:lnTo>
                  <a:pt x="2454" y="626"/>
                </a:lnTo>
                <a:lnTo>
                  <a:pt x="2438" y="616"/>
                </a:lnTo>
                <a:lnTo>
                  <a:pt x="2425" y="604"/>
                </a:lnTo>
                <a:lnTo>
                  <a:pt x="2409" y="594"/>
                </a:lnTo>
                <a:lnTo>
                  <a:pt x="2413" y="601"/>
                </a:lnTo>
                <a:lnTo>
                  <a:pt x="2413" y="585"/>
                </a:lnTo>
                <a:lnTo>
                  <a:pt x="2415" y="579"/>
                </a:lnTo>
                <a:lnTo>
                  <a:pt x="2415" y="499"/>
                </a:lnTo>
                <a:lnTo>
                  <a:pt x="2413" y="493"/>
                </a:lnTo>
                <a:lnTo>
                  <a:pt x="2413" y="471"/>
                </a:lnTo>
                <a:lnTo>
                  <a:pt x="2409" y="465"/>
                </a:lnTo>
                <a:lnTo>
                  <a:pt x="2409" y="449"/>
                </a:lnTo>
                <a:lnTo>
                  <a:pt x="2405" y="446"/>
                </a:lnTo>
                <a:lnTo>
                  <a:pt x="2405" y="433"/>
                </a:lnTo>
                <a:lnTo>
                  <a:pt x="2402" y="430"/>
                </a:lnTo>
                <a:lnTo>
                  <a:pt x="2402" y="420"/>
                </a:lnTo>
                <a:lnTo>
                  <a:pt x="2398" y="414"/>
                </a:lnTo>
                <a:lnTo>
                  <a:pt x="2398" y="405"/>
                </a:lnTo>
                <a:lnTo>
                  <a:pt x="2394" y="398"/>
                </a:lnTo>
                <a:lnTo>
                  <a:pt x="2394" y="395"/>
                </a:lnTo>
                <a:lnTo>
                  <a:pt x="2392" y="389"/>
                </a:lnTo>
                <a:lnTo>
                  <a:pt x="2392" y="382"/>
                </a:lnTo>
                <a:lnTo>
                  <a:pt x="2390" y="382"/>
                </a:lnTo>
                <a:lnTo>
                  <a:pt x="2390" y="376"/>
                </a:lnTo>
                <a:lnTo>
                  <a:pt x="2386" y="370"/>
                </a:lnTo>
                <a:lnTo>
                  <a:pt x="2386" y="367"/>
                </a:lnTo>
                <a:lnTo>
                  <a:pt x="2384" y="360"/>
                </a:lnTo>
                <a:lnTo>
                  <a:pt x="2384" y="354"/>
                </a:lnTo>
                <a:lnTo>
                  <a:pt x="2380" y="351"/>
                </a:lnTo>
                <a:lnTo>
                  <a:pt x="2380" y="344"/>
                </a:lnTo>
                <a:lnTo>
                  <a:pt x="2373" y="335"/>
                </a:lnTo>
                <a:lnTo>
                  <a:pt x="2373" y="332"/>
                </a:lnTo>
                <a:lnTo>
                  <a:pt x="2363" y="316"/>
                </a:lnTo>
                <a:lnTo>
                  <a:pt x="2363" y="310"/>
                </a:lnTo>
                <a:lnTo>
                  <a:pt x="2346" y="284"/>
                </a:lnTo>
                <a:lnTo>
                  <a:pt x="2346" y="281"/>
                </a:lnTo>
                <a:lnTo>
                  <a:pt x="2338" y="265"/>
                </a:lnTo>
                <a:lnTo>
                  <a:pt x="2334" y="265"/>
                </a:lnTo>
                <a:lnTo>
                  <a:pt x="2315" y="234"/>
                </a:lnTo>
                <a:lnTo>
                  <a:pt x="2311" y="234"/>
                </a:lnTo>
                <a:lnTo>
                  <a:pt x="2301" y="221"/>
                </a:lnTo>
                <a:lnTo>
                  <a:pt x="2299" y="221"/>
                </a:lnTo>
                <a:lnTo>
                  <a:pt x="2290" y="211"/>
                </a:lnTo>
                <a:lnTo>
                  <a:pt x="2288" y="211"/>
                </a:lnTo>
                <a:lnTo>
                  <a:pt x="2286" y="205"/>
                </a:lnTo>
                <a:lnTo>
                  <a:pt x="2282" y="205"/>
                </a:lnTo>
                <a:lnTo>
                  <a:pt x="2278" y="199"/>
                </a:lnTo>
                <a:lnTo>
                  <a:pt x="2276" y="199"/>
                </a:lnTo>
                <a:lnTo>
                  <a:pt x="2272" y="196"/>
                </a:lnTo>
                <a:lnTo>
                  <a:pt x="2268" y="196"/>
                </a:lnTo>
                <a:lnTo>
                  <a:pt x="2268" y="189"/>
                </a:lnTo>
                <a:lnTo>
                  <a:pt x="2264" y="189"/>
                </a:lnTo>
                <a:lnTo>
                  <a:pt x="2259" y="186"/>
                </a:lnTo>
                <a:lnTo>
                  <a:pt x="2257" y="186"/>
                </a:lnTo>
                <a:lnTo>
                  <a:pt x="2253" y="180"/>
                </a:lnTo>
                <a:lnTo>
                  <a:pt x="2249" y="180"/>
                </a:lnTo>
                <a:lnTo>
                  <a:pt x="2245" y="177"/>
                </a:lnTo>
                <a:lnTo>
                  <a:pt x="2241" y="177"/>
                </a:lnTo>
                <a:lnTo>
                  <a:pt x="2237" y="170"/>
                </a:lnTo>
                <a:lnTo>
                  <a:pt x="2230" y="170"/>
                </a:lnTo>
                <a:lnTo>
                  <a:pt x="2226" y="164"/>
                </a:lnTo>
                <a:lnTo>
                  <a:pt x="2220" y="164"/>
                </a:lnTo>
                <a:lnTo>
                  <a:pt x="2218" y="161"/>
                </a:lnTo>
                <a:lnTo>
                  <a:pt x="2208" y="161"/>
                </a:lnTo>
                <a:lnTo>
                  <a:pt x="2203" y="155"/>
                </a:lnTo>
                <a:lnTo>
                  <a:pt x="2193" y="155"/>
                </a:lnTo>
                <a:lnTo>
                  <a:pt x="2193" y="148"/>
                </a:lnTo>
                <a:lnTo>
                  <a:pt x="2172" y="148"/>
                </a:lnTo>
                <a:lnTo>
                  <a:pt x="2168" y="145"/>
                </a:lnTo>
                <a:lnTo>
                  <a:pt x="2108" y="145"/>
                </a:lnTo>
                <a:lnTo>
                  <a:pt x="2104" y="148"/>
                </a:lnTo>
                <a:lnTo>
                  <a:pt x="2085" y="148"/>
                </a:lnTo>
                <a:lnTo>
                  <a:pt x="2081" y="155"/>
                </a:lnTo>
                <a:lnTo>
                  <a:pt x="2071" y="155"/>
                </a:lnTo>
                <a:lnTo>
                  <a:pt x="2069" y="161"/>
                </a:lnTo>
                <a:lnTo>
                  <a:pt x="2058" y="161"/>
                </a:lnTo>
                <a:lnTo>
                  <a:pt x="2054" y="164"/>
                </a:lnTo>
                <a:lnTo>
                  <a:pt x="2048" y="164"/>
                </a:lnTo>
                <a:lnTo>
                  <a:pt x="2044" y="170"/>
                </a:lnTo>
                <a:lnTo>
                  <a:pt x="2040" y="170"/>
                </a:lnTo>
                <a:lnTo>
                  <a:pt x="2035" y="177"/>
                </a:lnTo>
                <a:lnTo>
                  <a:pt x="2029" y="177"/>
                </a:lnTo>
                <a:lnTo>
                  <a:pt x="2025" y="180"/>
                </a:lnTo>
                <a:lnTo>
                  <a:pt x="2023" y="180"/>
                </a:lnTo>
                <a:lnTo>
                  <a:pt x="2021" y="186"/>
                </a:lnTo>
                <a:lnTo>
                  <a:pt x="2017" y="186"/>
                </a:lnTo>
                <a:lnTo>
                  <a:pt x="2013" y="189"/>
                </a:lnTo>
                <a:lnTo>
                  <a:pt x="2011" y="189"/>
                </a:lnTo>
                <a:lnTo>
                  <a:pt x="2006" y="196"/>
                </a:lnTo>
                <a:lnTo>
                  <a:pt x="2002" y="196"/>
                </a:lnTo>
                <a:lnTo>
                  <a:pt x="2000" y="199"/>
                </a:lnTo>
                <a:lnTo>
                  <a:pt x="1996" y="199"/>
                </a:lnTo>
                <a:lnTo>
                  <a:pt x="1994" y="205"/>
                </a:lnTo>
                <a:lnTo>
                  <a:pt x="1990" y="205"/>
                </a:lnTo>
                <a:lnTo>
                  <a:pt x="1988" y="211"/>
                </a:lnTo>
                <a:lnTo>
                  <a:pt x="1984" y="211"/>
                </a:lnTo>
                <a:lnTo>
                  <a:pt x="1977" y="221"/>
                </a:lnTo>
                <a:lnTo>
                  <a:pt x="1973" y="221"/>
                </a:lnTo>
                <a:lnTo>
                  <a:pt x="1965" y="234"/>
                </a:lnTo>
                <a:lnTo>
                  <a:pt x="1961" y="234"/>
                </a:lnTo>
                <a:lnTo>
                  <a:pt x="1965" y="234"/>
                </a:lnTo>
                <a:lnTo>
                  <a:pt x="1955" y="215"/>
                </a:lnTo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fee9d5"/>
              </a:gs>
            </a:gsLst>
            <a:path path="rect">
              <a:fillToRect l="50000" t="50000" r="50000" b="50000"/>
            </a:path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908680" y="5778360"/>
            <a:ext cx="917640" cy="82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7135920" y="5518080"/>
          <a:ext cx="1595160" cy="133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35920" y="5518080"/>
                    <a:ext cx="159516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-1800" y="3125880"/>
            <a:ext cx="2089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80"/>
                </a:solidFill>
                <a:latin typeface="Arial"/>
              </a:rPr>
              <a:t>Ambulance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7520" y="1627200"/>
            <a:ext cx="8915400" cy="4424400"/>
            <a:chOff x="47520" y="1627200"/>
            <a:chExt cx="8915400" cy="4424400"/>
          </a:xfrm>
        </p:grpSpPr>
        <p:pic>
          <p:nvPicPr>
            <p:cNvPr id="159" name="" descr=""/>
            <p:cNvPicPr/>
            <p:nvPr/>
          </p:nvPicPr>
          <p:blipFill>
            <a:blip r:embed="rId4"/>
            <a:stretch/>
          </p:blipFill>
          <p:spPr>
            <a:xfrm>
              <a:off x="8053560" y="4802040"/>
              <a:ext cx="909360" cy="65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5"/>
            <a:stretch/>
          </p:blipFill>
          <p:spPr>
            <a:xfrm>
              <a:off x="5734080" y="2236680"/>
              <a:ext cx="23590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123960" y="1932120"/>
              <a:ext cx="1722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000080"/>
                  </a:solidFill>
                  <a:latin typeface="Arial"/>
                </a:rPr>
                <a:t>Hospital S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84320" y="1627200"/>
              <a:ext cx="3241800" cy="1865160"/>
            </a:xfrm>
            <a:custGeom>
              <a:avLst/>
              <a:gdLst/>
              <a:ahLst/>
              <a:rect l="l" t="t" r="r" b="b"/>
              <a:pathLst>
                <a:path w="2159" h="1247">
                  <a:moveTo>
                    <a:pt x="1571" y="119"/>
                  </a:moveTo>
                  <a:lnTo>
                    <a:pt x="1565" y="113"/>
                  </a:lnTo>
                  <a:lnTo>
                    <a:pt x="1558" y="108"/>
                  </a:lnTo>
                  <a:lnTo>
                    <a:pt x="1550" y="105"/>
                  </a:lnTo>
                  <a:lnTo>
                    <a:pt x="1543" y="99"/>
                  </a:lnTo>
                  <a:lnTo>
                    <a:pt x="1535" y="94"/>
                  </a:lnTo>
                  <a:lnTo>
                    <a:pt x="1530" y="91"/>
                  </a:lnTo>
                  <a:lnTo>
                    <a:pt x="1523" y="85"/>
                  </a:lnTo>
                  <a:lnTo>
                    <a:pt x="1515" y="82"/>
                  </a:lnTo>
                  <a:lnTo>
                    <a:pt x="1506" y="77"/>
                  </a:lnTo>
                  <a:lnTo>
                    <a:pt x="1498" y="75"/>
                  </a:lnTo>
                  <a:lnTo>
                    <a:pt x="1493" y="73"/>
                  </a:lnTo>
                  <a:lnTo>
                    <a:pt x="1485" y="70"/>
                  </a:lnTo>
                  <a:lnTo>
                    <a:pt x="1478" y="66"/>
                  </a:lnTo>
                  <a:lnTo>
                    <a:pt x="1470" y="61"/>
                  </a:lnTo>
                  <a:lnTo>
                    <a:pt x="1463" y="57"/>
                  </a:lnTo>
                  <a:lnTo>
                    <a:pt x="1455" y="56"/>
                  </a:lnTo>
                  <a:lnTo>
                    <a:pt x="1446" y="56"/>
                  </a:lnTo>
                  <a:lnTo>
                    <a:pt x="1438" y="52"/>
                  </a:lnTo>
                  <a:lnTo>
                    <a:pt x="1430" y="49"/>
                  </a:lnTo>
                  <a:lnTo>
                    <a:pt x="1423" y="47"/>
                  </a:lnTo>
                  <a:lnTo>
                    <a:pt x="1415" y="47"/>
                  </a:lnTo>
                  <a:lnTo>
                    <a:pt x="1406" y="45"/>
                  </a:lnTo>
                  <a:lnTo>
                    <a:pt x="1400" y="42"/>
                  </a:lnTo>
                  <a:lnTo>
                    <a:pt x="1391" y="42"/>
                  </a:lnTo>
                  <a:lnTo>
                    <a:pt x="1385" y="38"/>
                  </a:lnTo>
                  <a:lnTo>
                    <a:pt x="1366" y="38"/>
                  </a:lnTo>
                  <a:lnTo>
                    <a:pt x="1358" y="36"/>
                  </a:lnTo>
                  <a:lnTo>
                    <a:pt x="1295" y="36"/>
                  </a:lnTo>
                  <a:lnTo>
                    <a:pt x="1285" y="38"/>
                  </a:lnTo>
                  <a:lnTo>
                    <a:pt x="1265" y="38"/>
                  </a:lnTo>
                  <a:lnTo>
                    <a:pt x="1256" y="42"/>
                  </a:lnTo>
                  <a:lnTo>
                    <a:pt x="1246" y="42"/>
                  </a:lnTo>
                  <a:lnTo>
                    <a:pt x="1235" y="45"/>
                  </a:lnTo>
                  <a:lnTo>
                    <a:pt x="1226" y="47"/>
                  </a:lnTo>
                  <a:lnTo>
                    <a:pt x="1216" y="49"/>
                  </a:lnTo>
                  <a:lnTo>
                    <a:pt x="1208" y="52"/>
                  </a:lnTo>
                  <a:lnTo>
                    <a:pt x="1200" y="56"/>
                  </a:lnTo>
                  <a:lnTo>
                    <a:pt x="1191" y="57"/>
                  </a:lnTo>
                  <a:lnTo>
                    <a:pt x="1181" y="61"/>
                  </a:lnTo>
                  <a:lnTo>
                    <a:pt x="1173" y="64"/>
                  </a:lnTo>
                  <a:lnTo>
                    <a:pt x="1163" y="66"/>
                  </a:lnTo>
                  <a:lnTo>
                    <a:pt x="1155" y="73"/>
                  </a:lnTo>
                  <a:lnTo>
                    <a:pt x="1148" y="75"/>
                  </a:lnTo>
                  <a:lnTo>
                    <a:pt x="1140" y="77"/>
                  </a:lnTo>
                  <a:lnTo>
                    <a:pt x="1128" y="82"/>
                  </a:lnTo>
                  <a:lnTo>
                    <a:pt x="1121" y="89"/>
                  </a:lnTo>
                  <a:lnTo>
                    <a:pt x="1113" y="94"/>
                  </a:lnTo>
                  <a:lnTo>
                    <a:pt x="1105" y="98"/>
                  </a:lnTo>
                  <a:lnTo>
                    <a:pt x="1096" y="103"/>
                  </a:lnTo>
                  <a:lnTo>
                    <a:pt x="1088" y="108"/>
                  </a:lnTo>
                  <a:lnTo>
                    <a:pt x="1081" y="113"/>
                  </a:lnTo>
                  <a:lnTo>
                    <a:pt x="1073" y="122"/>
                  </a:lnTo>
                  <a:lnTo>
                    <a:pt x="1066" y="127"/>
                  </a:lnTo>
                  <a:lnTo>
                    <a:pt x="1058" y="133"/>
                  </a:lnTo>
                  <a:lnTo>
                    <a:pt x="1050" y="141"/>
                  </a:lnTo>
                  <a:lnTo>
                    <a:pt x="1043" y="147"/>
                  </a:lnTo>
                  <a:lnTo>
                    <a:pt x="1036" y="141"/>
                  </a:lnTo>
                  <a:lnTo>
                    <a:pt x="1035" y="134"/>
                  </a:lnTo>
                  <a:lnTo>
                    <a:pt x="1031" y="133"/>
                  </a:lnTo>
                  <a:lnTo>
                    <a:pt x="1031" y="129"/>
                  </a:lnTo>
                  <a:lnTo>
                    <a:pt x="1025" y="122"/>
                  </a:lnTo>
                  <a:lnTo>
                    <a:pt x="1025" y="119"/>
                  </a:lnTo>
                  <a:lnTo>
                    <a:pt x="983" y="75"/>
                  </a:lnTo>
                  <a:lnTo>
                    <a:pt x="980" y="75"/>
                  </a:lnTo>
                  <a:lnTo>
                    <a:pt x="971" y="66"/>
                  </a:lnTo>
                  <a:lnTo>
                    <a:pt x="968" y="66"/>
                  </a:lnTo>
                  <a:lnTo>
                    <a:pt x="961" y="57"/>
                  </a:lnTo>
                  <a:lnTo>
                    <a:pt x="960" y="57"/>
                  </a:lnTo>
                  <a:lnTo>
                    <a:pt x="953" y="52"/>
                  </a:lnTo>
                  <a:lnTo>
                    <a:pt x="951" y="52"/>
                  </a:lnTo>
                  <a:lnTo>
                    <a:pt x="950" y="49"/>
                  </a:lnTo>
                  <a:lnTo>
                    <a:pt x="946" y="49"/>
                  </a:lnTo>
                  <a:lnTo>
                    <a:pt x="941" y="45"/>
                  </a:lnTo>
                  <a:lnTo>
                    <a:pt x="938" y="45"/>
                  </a:lnTo>
                  <a:lnTo>
                    <a:pt x="935" y="42"/>
                  </a:lnTo>
                  <a:lnTo>
                    <a:pt x="933" y="42"/>
                  </a:lnTo>
                  <a:lnTo>
                    <a:pt x="930" y="38"/>
                  </a:lnTo>
                  <a:lnTo>
                    <a:pt x="928" y="38"/>
                  </a:lnTo>
                  <a:lnTo>
                    <a:pt x="926" y="36"/>
                  </a:lnTo>
                  <a:lnTo>
                    <a:pt x="923" y="36"/>
                  </a:lnTo>
                  <a:lnTo>
                    <a:pt x="920" y="33"/>
                  </a:lnTo>
                  <a:lnTo>
                    <a:pt x="918" y="33"/>
                  </a:lnTo>
                  <a:lnTo>
                    <a:pt x="915" y="29"/>
                  </a:lnTo>
                  <a:lnTo>
                    <a:pt x="911" y="29"/>
                  </a:lnTo>
                  <a:lnTo>
                    <a:pt x="910" y="28"/>
                  </a:lnTo>
                  <a:lnTo>
                    <a:pt x="905" y="28"/>
                  </a:lnTo>
                  <a:lnTo>
                    <a:pt x="901" y="24"/>
                  </a:lnTo>
                  <a:lnTo>
                    <a:pt x="900" y="24"/>
                  </a:lnTo>
                  <a:lnTo>
                    <a:pt x="896" y="21"/>
                  </a:lnTo>
                  <a:lnTo>
                    <a:pt x="891" y="21"/>
                  </a:lnTo>
                  <a:lnTo>
                    <a:pt x="890" y="21"/>
                  </a:lnTo>
                  <a:lnTo>
                    <a:pt x="883" y="21"/>
                  </a:lnTo>
                  <a:lnTo>
                    <a:pt x="881" y="17"/>
                  </a:lnTo>
                  <a:lnTo>
                    <a:pt x="875" y="17"/>
                  </a:lnTo>
                  <a:lnTo>
                    <a:pt x="873" y="14"/>
                  </a:lnTo>
                  <a:lnTo>
                    <a:pt x="866" y="14"/>
                  </a:lnTo>
                  <a:lnTo>
                    <a:pt x="863" y="12"/>
                  </a:lnTo>
                  <a:lnTo>
                    <a:pt x="855" y="12"/>
                  </a:lnTo>
                  <a:lnTo>
                    <a:pt x="851" y="8"/>
                  </a:lnTo>
                  <a:lnTo>
                    <a:pt x="845" y="8"/>
                  </a:lnTo>
                  <a:lnTo>
                    <a:pt x="841" y="5"/>
                  </a:lnTo>
                  <a:lnTo>
                    <a:pt x="830" y="5"/>
                  </a:lnTo>
                  <a:lnTo>
                    <a:pt x="826" y="3"/>
                  </a:lnTo>
                  <a:lnTo>
                    <a:pt x="808" y="3"/>
                  </a:lnTo>
                  <a:lnTo>
                    <a:pt x="806" y="0"/>
                  </a:lnTo>
                  <a:lnTo>
                    <a:pt x="746" y="0"/>
                  </a:lnTo>
                  <a:lnTo>
                    <a:pt x="743" y="3"/>
                  </a:lnTo>
                  <a:lnTo>
                    <a:pt x="725" y="3"/>
                  </a:lnTo>
                  <a:lnTo>
                    <a:pt x="721" y="5"/>
                  </a:lnTo>
                  <a:lnTo>
                    <a:pt x="710" y="5"/>
                  </a:lnTo>
                  <a:lnTo>
                    <a:pt x="706" y="8"/>
                  </a:lnTo>
                  <a:lnTo>
                    <a:pt x="698" y="8"/>
                  </a:lnTo>
                  <a:lnTo>
                    <a:pt x="695" y="12"/>
                  </a:lnTo>
                  <a:lnTo>
                    <a:pt x="688" y="12"/>
                  </a:lnTo>
                  <a:lnTo>
                    <a:pt x="686" y="14"/>
                  </a:lnTo>
                  <a:lnTo>
                    <a:pt x="678" y="14"/>
                  </a:lnTo>
                  <a:lnTo>
                    <a:pt x="675" y="17"/>
                  </a:lnTo>
                  <a:lnTo>
                    <a:pt x="670" y="17"/>
                  </a:lnTo>
                  <a:lnTo>
                    <a:pt x="668" y="21"/>
                  </a:lnTo>
                  <a:lnTo>
                    <a:pt x="661" y="21"/>
                  </a:lnTo>
                  <a:lnTo>
                    <a:pt x="660" y="21"/>
                  </a:lnTo>
                  <a:lnTo>
                    <a:pt x="653" y="21"/>
                  </a:lnTo>
                  <a:lnTo>
                    <a:pt x="651" y="24"/>
                  </a:lnTo>
                  <a:lnTo>
                    <a:pt x="650" y="24"/>
                  </a:lnTo>
                  <a:lnTo>
                    <a:pt x="646" y="28"/>
                  </a:lnTo>
                  <a:lnTo>
                    <a:pt x="641" y="28"/>
                  </a:lnTo>
                  <a:lnTo>
                    <a:pt x="638" y="29"/>
                  </a:lnTo>
                  <a:lnTo>
                    <a:pt x="636" y="29"/>
                  </a:lnTo>
                  <a:lnTo>
                    <a:pt x="633" y="33"/>
                  </a:lnTo>
                  <a:lnTo>
                    <a:pt x="631" y="33"/>
                  </a:lnTo>
                  <a:lnTo>
                    <a:pt x="628" y="36"/>
                  </a:lnTo>
                  <a:lnTo>
                    <a:pt x="626" y="36"/>
                  </a:lnTo>
                  <a:lnTo>
                    <a:pt x="623" y="38"/>
                  </a:lnTo>
                  <a:lnTo>
                    <a:pt x="620" y="38"/>
                  </a:lnTo>
                  <a:lnTo>
                    <a:pt x="618" y="42"/>
                  </a:lnTo>
                  <a:lnTo>
                    <a:pt x="615" y="42"/>
                  </a:lnTo>
                  <a:lnTo>
                    <a:pt x="611" y="45"/>
                  </a:lnTo>
                  <a:lnTo>
                    <a:pt x="610" y="45"/>
                  </a:lnTo>
                  <a:lnTo>
                    <a:pt x="605" y="49"/>
                  </a:lnTo>
                  <a:lnTo>
                    <a:pt x="601" y="49"/>
                  </a:lnTo>
                  <a:lnTo>
                    <a:pt x="600" y="52"/>
                  </a:lnTo>
                  <a:lnTo>
                    <a:pt x="596" y="52"/>
                  </a:lnTo>
                  <a:lnTo>
                    <a:pt x="593" y="57"/>
                  </a:lnTo>
                  <a:lnTo>
                    <a:pt x="590" y="57"/>
                  </a:lnTo>
                  <a:lnTo>
                    <a:pt x="581" y="66"/>
                  </a:lnTo>
                  <a:lnTo>
                    <a:pt x="578" y="66"/>
                  </a:lnTo>
                  <a:lnTo>
                    <a:pt x="571" y="75"/>
                  </a:lnTo>
                  <a:lnTo>
                    <a:pt x="568" y="75"/>
                  </a:lnTo>
                  <a:lnTo>
                    <a:pt x="526" y="119"/>
                  </a:lnTo>
                  <a:lnTo>
                    <a:pt x="526" y="122"/>
                  </a:lnTo>
                  <a:lnTo>
                    <a:pt x="518" y="129"/>
                  </a:lnTo>
                  <a:lnTo>
                    <a:pt x="518" y="133"/>
                  </a:lnTo>
                  <a:lnTo>
                    <a:pt x="513" y="138"/>
                  </a:lnTo>
                  <a:lnTo>
                    <a:pt x="513" y="141"/>
                  </a:lnTo>
                  <a:lnTo>
                    <a:pt x="508" y="147"/>
                  </a:lnTo>
                  <a:lnTo>
                    <a:pt x="508" y="150"/>
                  </a:lnTo>
                  <a:lnTo>
                    <a:pt x="503" y="155"/>
                  </a:lnTo>
                  <a:lnTo>
                    <a:pt x="503" y="157"/>
                  </a:lnTo>
                  <a:lnTo>
                    <a:pt x="500" y="162"/>
                  </a:lnTo>
                  <a:lnTo>
                    <a:pt x="500" y="166"/>
                  </a:lnTo>
                  <a:lnTo>
                    <a:pt x="438" y="161"/>
                  </a:lnTo>
                  <a:lnTo>
                    <a:pt x="413" y="161"/>
                  </a:lnTo>
                  <a:lnTo>
                    <a:pt x="393" y="162"/>
                  </a:lnTo>
                  <a:lnTo>
                    <a:pt x="371" y="166"/>
                  </a:lnTo>
                  <a:lnTo>
                    <a:pt x="350" y="169"/>
                  </a:lnTo>
                  <a:lnTo>
                    <a:pt x="328" y="175"/>
                  </a:lnTo>
                  <a:lnTo>
                    <a:pt x="308" y="180"/>
                  </a:lnTo>
                  <a:lnTo>
                    <a:pt x="286" y="185"/>
                  </a:lnTo>
                  <a:lnTo>
                    <a:pt x="268" y="194"/>
                  </a:lnTo>
                  <a:lnTo>
                    <a:pt x="248" y="203"/>
                  </a:lnTo>
                  <a:lnTo>
                    <a:pt x="230" y="211"/>
                  </a:lnTo>
                  <a:lnTo>
                    <a:pt x="211" y="224"/>
                  </a:lnTo>
                  <a:lnTo>
                    <a:pt x="193" y="236"/>
                  </a:lnTo>
                  <a:lnTo>
                    <a:pt x="175" y="246"/>
                  </a:lnTo>
                  <a:lnTo>
                    <a:pt x="158" y="260"/>
                  </a:lnTo>
                  <a:lnTo>
                    <a:pt x="143" y="273"/>
                  </a:lnTo>
                  <a:lnTo>
                    <a:pt x="128" y="288"/>
                  </a:lnTo>
                  <a:lnTo>
                    <a:pt x="98" y="318"/>
                  </a:lnTo>
                  <a:lnTo>
                    <a:pt x="86" y="334"/>
                  </a:lnTo>
                  <a:lnTo>
                    <a:pt x="75" y="351"/>
                  </a:lnTo>
                  <a:lnTo>
                    <a:pt x="63" y="367"/>
                  </a:lnTo>
                  <a:lnTo>
                    <a:pt x="53" y="386"/>
                  </a:lnTo>
                  <a:lnTo>
                    <a:pt x="45" y="402"/>
                  </a:lnTo>
                  <a:lnTo>
                    <a:pt x="35" y="423"/>
                  </a:lnTo>
                  <a:lnTo>
                    <a:pt x="26" y="442"/>
                  </a:lnTo>
                  <a:lnTo>
                    <a:pt x="21" y="463"/>
                  </a:lnTo>
                  <a:lnTo>
                    <a:pt x="13" y="483"/>
                  </a:lnTo>
                  <a:lnTo>
                    <a:pt x="8" y="507"/>
                  </a:lnTo>
                  <a:lnTo>
                    <a:pt x="5" y="525"/>
                  </a:lnTo>
                  <a:lnTo>
                    <a:pt x="3" y="547"/>
                  </a:lnTo>
                  <a:lnTo>
                    <a:pt x="0" y="568"/>
                  </a:lnTo>
                  <a:lnTo>
                    <a:pt x="0" y="614"/>
                  </a:lnTo>
                  <a:lnTo>
                    <a:pt x="3" y="637"/>
                  </a:lnTo>
                  <a:lnTo>
                    <a:pt x="5" y="658"/>
                  </a:lnTo>
                  <a:lnTo>
                    <a:pt x="8" y="677"/>
                  </a:lnTo>
                  <a:lnTo>
                    <a:pt x="13" y="698"/>
                  </a:lnTo>
                  <a:lnTo>
                    <a:pt x="21" y="719"/>
                  </a:lnTo>
                  <a:lnTo>
                    <a:pt x="26" y="740"/>
                  </a:lnTo>
                  <a:lnTo>
                    <a:pt x="35" y="759"/>
                  </a:lnTo>
                  <a:lnTo>
                    <a:pt x="45" y="778"/>
                  </a:lnTo>
                  <a:lnTo>
                    <a:pt x="53" y="796"/>
                  </a:lnTo>
                  <a:lnTo>
                    <a:pt x="63" y="815"/>
                  </a:lnTo>
                  <a:lnTo>
                    <a:pt x="75" y="831"/>
                  </a:lnTo>
                  <a:lnTo>
                    <a:pt x="86" y="848"/>
                  </a:lnTo>
                  <a:lnTo>
                    <a:pt x="98" y="864"/>
                  </a:lnTo>
                  <a:lnTo>
                    <a:pt x="128" y="896"/>
                  </a:lnTo>
                  <a:lnTo>
                    <a:pt x="143" y="910"/>
                  </a:lnTo>
                  <a:lnTo>
                    <a:pt x="158" y="922"/>
                  </a:lnTo>
                  <a:lnTo>
                    <a:pt x="175" y="938"/>
                  </a:lnTo>
                  <a:lnTo>
                    <a:pt x="193" y="948"/>
                  </a:lnTo>
                  <a:lnTo>
                    <a:pt x="211" y="959"/>
                  </a:lnTo>
                  <a:lnTo>
                    <a:pt x="230" y="969"/>
                  </a:lnTo>
                  <a:lnTo>
                    <a:pt x="248" y="981"/>
                  </a:lnTo>
                  <a:lnTo>
                    <a:pt x="268" y="990"/>
                  </a:lnTo>
                  <a:lnTo>
                    <a:pt x="286" y="997"/>
                  </a:lnTo>
                  <a:lnTo>
                    <a:pt x="308" y="1002"/>
                  </a:lnTo>
                  <a:lnTo>
                    <a:pt x="328" y="1009"/>
                  </a:lnTo>
                  <a:lnTo>
                    <a:pt x="350" y="1015"/>
                  </a:lnTo>
                  <a:lnTo>
                    <a:pt x="371" y="1018"/>
                  </a:lnTo>
                  <a:lnTo>
                    <a:pt x="393" y="1020"/>
                  </a:lnTo>
                  <a:lnTo>
                    <a:pt x="413" y="1022"/>
                  </a:lnTo>
                  <a:lnTo>
                    <a:pt x="438" y="1022"/>
                  </a:lnTo>
                  <a:lnTo>
                    <a:pt x="485" y="1020"/>
                  </a:lnTo>
                  <a:lnTo>
                    <a:pt x="488" y="1020"/>
                  </a:lnTo>
                  <a:lnTo>
                    <a:pt x="491" y="1034"/>
                  </a:lnTo>
                  <a:lnTo>
                    <a:pt x="500" y="1044"/>
                  </a:lnTo>
                  <a:lnTo>
                    <a:pt x="508" y="1058"/>
                  </a:lnTo>
                  <a:lnTo>
                    <a:pt x="516" y="1069"/>
                  </a:lnTo>
                  <a:lnTo>
                    <a:pt x="525" y="1079"/>
                  </a:lnTo>
                  <a:lnTo>
                    <a:pt x="533" y="1092"/>
                  </a:lnTo>
                  <a:lnTo>
                    <a:pt x="540" y="1102"/>
                  </a:lnTo>
                  <a:lnTo>
                    <a:pt x="550" y="1113"/>
                  </a:lnTo>
                  <a:lnTo>
                    <a:pt x="558" y="1125"/>
                  </a:lnTo>
                  <a:lnTo>
                    <a:pt x="568" y="1132"/>
                  </a:lnTo>
                  <a:lnTo>
                    <a:pt x="578" y="1144"/>
                  </a:lnTo>
                  <a:lnTo>
                    <a:pt x="590" y="1153"/>
                  </a:lnTo>
                  <a:lnTo>
                    <a:pt x="600" y="1160"/>
                  </a:lnTo>
                  <a:lnTo>
                    <a:pt x="610" y="1169"/>
                  </a:lnTo>
                  <a:lnTo>
                    <a:pt x="623" y="1177"/>
                  </a:lnTo>
                  <a:lnTo>
                    <a:pt x="633" y="1184"/>
                  </a:lnTo>
                  <a:lnTo>
                    <a:pt x="646" y="1191"/>
                  </a:lnTo>
                  <a:lnTo>
                    <a:pt x="656" y="1200"/>
                  </a:lnTo>
                  <a:lnTo>
                    <a:pt x="670" y="1205"/>
                  </a:lnTo>
                  <a:lnTo>
                    <a:pt x="683" y="1209"/>
                  </a:lnTo>
                  <a:lnTo>
                    <a:pt x="695" y="1216"/>
                  </a:lnTo>
                  <a:lnTo>
                    <a:pt x="710" y="1221"/>
                  </a:lnTo>
                  <a:lnTo>
                    <a:pt x="721" y="1226"/>
                  </a:lnTo>
                  <a:lnTo>
                    <a:pt x="735" y="1230"/>
                  </a:lnTo>
                  <a:lnTo>
                    <a:pt x="748" y="1235"/>
                  </a:lnTo>
                  <a:lnTo>
                    <a:pt x="761" y="1237"/>
                  </a:lnTo>
                  <a:lnTo>
                    <a:pt x="776" y="1240"/>
                  </a:lnTo>
                  <a:lnTo>
                    <a:pt x="790" y="1244"/>
                  </a:lnTo>
                  <a:lnTo>
                    <a:pt x="806" y="1244"/>
                  </a:lnTo>
                  <a:lnTo>
                    <a:pt x="818" y="1246"/>
                  </a:lnTo>
                  <a:lnTo>
                    <a:pt x="870" y="1246"/>
                  </a:lnTo>
                  <a:lnTo>
                    <a:pt x="883" y="1244"/>
                  </a:lnTo>
                  <a:lnTo>
                    <a:pt x="896" y="1244"/>
                  </a:lnTo>
                  <a:lnTo>
                    <a:pt x="908" y="1240"/>
                  </a:lnTo>
                  <a:lnTo>
                    <a:pt x="920" y="1240"/>
                  </a:lnTo>
                  <a:lnTo>
                    <a:pt x="933" y="1237"/>
                  </a:lnTo>
                  <a:lnTo>
                    <a:pt x="943" y="1235"/>
                  </a:lnTo>
                  <a:lnTo>
                    <a:pt x="953" y="1233"/>
                  </a:lnTo>
                  <a:lnTo>
                    <a:pt x="968" y="1230"/>
                  </a:lnTo>
                  <a:lnTo>
                    <a:pt x="978" y="1225"/>
                  </a:lnTo>
                  <a:lnTo>
                    <a:pt x="988" y="1221"/>
                  </a:lnTo>
                  <a:lnTo>
                    <a:pt x="1001" y="1216"/>
                  </a:lnTo>
                  <a:lnTo>
                    <a:pt x="1011" y="1212"/>
                  </a:lnTo>
                  <a:lnTo>
                    <a:pt x="1021" y="1209"/>
                  </a:lnTo>
                  <a:lnTo>
                    <a:pt x="1031" y="1202"/>
                  </a:lnTo>
                  <a:lnTo>
                    <a:pt x="1043" y="1197"/>
                  </a:lnTo>
                  <a:lnTo>
                    <a:pt x="1053" y="1191"/>
                  </a:lnTo>
                  <a:lnTo>
                    <a:pt x="1061" y="1184"/>
                  </a:lnTo>
                  <a:lnTo>
                    <a:pt x="1071" y="1177"/>
                  </a:lnTo>
                  <a:lnTo>
                    <a:pt x="1081" y="1172"/>
                  </a:lnTo>
                  <a:lnTo>
                    <a:pt x="1088" y="1163"/>
                  </a:lnTo>
                  <a:lnTo>
                    <a:pt x="1100" y="1156"/>
                  </a:lnTo>
                  <a:lnTo>
                    <a:pt x="1108" y="1149"/>
                  </a:lnTo>
                  <a:lnTo>
                    <a:pt x="1118" y="1141"/>
                  </a:lnTo>
                  <a:lnTo>
                    <a:pt x="1148" y="1107"/>
                  </a:lnTo>
                  <a:lnTo>
                    <a:pt x="1156" y="1097"/>
                  </a:lnTo>
                  <a:lnTo>
                    <a:pt x="1165" y="1088"/>
                  </a:lnTo>
                  <a:lnTo>
                    <a:pt x="1173" y="1078"/>
                  </a:lnTo>
                  <a:lnTo>
                    <a:pt x="1181" y="1079"/>
                  </a:lnTo>
                  <a:lnTo>
                    <a:pt x="1183" y="1079"/>
                  </a:lnTo>
                  <a:lnTo>
                    <a:pt x="1191" y="1088"/>
                  </a:lnTo>
                  <a:lnTo>
                    <a:pt x="1193" y="1088"/>
                  </a:lnTo>
                  <a:lnTo>
                    <a:pt x="1200" y="1095"/>
                  </a:lnTo>
                  <a:lnTo>
                    <a:pt x="1201" y="1095"/>
                  </a:lnTo>
                  <a:lnTo>
                    <a:pt x="1205" y="1097"/>
                  </a:lnTo>
                  <a:lnTo>
                    <a:pt x="1208" y="1097"/>
                  </a:lnTo>
                  <a:lnTo>
                    <a:pt x="1211" y="1102"/>
                  </a:lnTo>
                  <a:lnTo>
                    <a:pt x="1215" y="1102"/>
                  </a:lnTo>
                  <a:lnTo>
                    <a:pt x="1216" y="1104"/>
                  </a:lnTo>
                  <a:lnTo>
                    <a:pt x="1220" y="1104"/>
                  </a:lnTo>
                  <a:lnTo>
                    <a:pt x="1223" y="1107"/>
                  </a:lnTo>
                  <a:lnTo>
                    <a:pt x="1225" y="1107"/>
                  </a:lnTo>
                  <a:lnTo>
                    <a:pt x="1226" y="1111"/>
                  </a:lnTo>
                  <a:lnTo>
                    <a:pt x="1230" y="1111"/>
                  </a:lnTo>
                  <a:lnTo>
                    <a:pt x="1233" y="1113"/>
                  </a:lnTo>
                  <a:lnTo>
                    <a:pt x="1235" y="1113"/>
                  </a:lnTo>
                  <a:lnTo>
                    <a:pt x="1238" y="1116"/>
                  </a:lnTo>
                  <a:lnTo>
                    <a:pt x="1241" y="1116"/>
                  </a:lnTo>
                  <a:lnTo>
                    <a:pt x="1243" y="1120"/>
                  </a:lnTo>
                  <a:lnTo>
                    <a:pt x="1246" y="1120"/>
                  </a:lnTo>
                  <a:lnTo>
                    <a:pt x="1248" y="1121"/>
                  </a:lnTo>
                  <a:lnTo>
                    <a:pt x="1253" y="1121"/>
                  </a:lnTo>
                  <a:lnTo>
                    <a:pt x="1256" y="1125"/>
                  </a:lnTo>
                  <a:lnTo>
                    <a:pt x="1261" y="1125"/>
                  </a:lnTo>
                  <a:lnTo>
                    <a:pt x="1265" y="1128"/>
                  </a:lnTo>
                  <a:lnTo>
                    <a:pt x="1268" y="1128"/>
                  </a:lnTo>
                  <a:lnTo>
                    <a:pt x="1271" y="1130"/>
                  </a:lnTo>
                  <a:lnTo>
                    <a:pt x="1276" y="1130"/>
                  </a:lnTo>
                  <a:lnTo>
                    <a:pt x="1280" y="1132"/>
                  </a:lnTo>
                  <a:lnTo>
                    <a:pt x="1286" y="1132"/>
                  </a:lnTo>
                  <a:lnTo>
                    <a:pt x="1290" y="1135"/>
                  </a:lnTo>
                  <a:lnTo>
                    <a:pt x="1298" y="1135"/>
                  </a:lnTo>
                  <a:lnTo>
                    <a:pt x="1301" y="1139"/>
                  </a:lnTo>
                  <a:lnTo>
                    <a:pt x="1310" y="1139"/>
                  </a:lnTo>
                  <a:lnTo>
                    <a:pt x="1313" y="1141"/>
                  </a:lnTo>
                  <a:lnTo>
                    <a:pt x="1331" y="1141"/>
                  </a:lnTo>
                  <a:lnTo>
                    <a:pt x="1335" y="1144"/>
                  </a:lnTo>
                  <a:lnTo>
                    <a:pt x="1386" y="1144"/>
                  </a:lnTo>
                  <a:lnTo>
                    <a:pt x="1388" y="1141"/>
                  </a:lnTo>
                  <a:lnTo>
                    <a:pt x="1406" y="1141"/>
                  </a:lnTo>
                  <a:lnTo>
                    <a:pt x="1410" y="1139"/>
                  </a:lnTo>
                  <a:lnTo>
                    <a:pt x="1421" y="1139"/>
                  </a:lnTo>
                  <a:lnTo>
                    <a:pt x="1423" y="1135"/>
                  </a:lnTo>
                  <a:lnTo>
                    <a:pt x="1430" y="1135"/>
                  </a:lnTo>
                  <a:lnTo>
                    <a:pt x="1433" y="1132"/>
                  </a:lnTo>
                  <a:lnTo>
                    <a:pt x="1441" y="1132"/>
                  </a:lnTo>
                  <a:lnTo>
                    <a:pt x="1445" y="1130"/>
                  </a:lnTo>
                  <a:lnTo>
                    <a:pt x="1448" y="1130"/>
                  </a:lnTo>
                  <a:lnTo>
                    <a:pt x="1451" y="1128"/>
                  </a:lnTo>
                  <a:lnTo>
                    <a:pt x="1456" y="1128"/>
                  </a:lnTo>
                  <a:lnTo>
                    <a:pt x="1460" y="1125"/>
                  </a:lnTo>
                  <a:lnTo>
                    <a:pt x="1465" y="1125"/>
                  </a:lnTo>
                  <a:lnTo>
                    <a:pt x="1466" y="1121"/>
                  </a:lnTo>
                  <a:lnTo>
                    <a:pt x="1473" y="1121"/>
                  </a:lnTo>
                  <a:lnTo>
                    <a:pt x="1475" y="1120"/>
                  </a:lnTo>
                  <a:lnTo>
                    <a:pt x="1478" y="1120"/>
                  </a:lnTo>
                  <a:lnTo>
                    <a:pt x="1481" y="1116"/>
                  </a:lnTo>
                  <a:lnTo>
                    <a:pt x="1483" y="1116"/>
                  </a:lnTo>
                  <a:lnTo>
                    <a:pt x="1485" y="1113"/>
                  </a:lnTo>
                  <a:lnTo>
                    <a:pt x="1488" y="1113"/>
                  </a:lnTo>
                  <a:lnTo>
                    <a:pt x="1490" y="1111"/>
                  </a:lnTo>
                  <a:lnTo>
                    <a:pt x="1493" y="1111"/>
                  </a:lnTo>
                  <a:lnTo>
                    <a:pt x="1496" y="1107"/>
                  </a:lnTo>
                  <a:lnTo>
                    <a:pt x="1498" y="1107"/>
                  </a:lnTo>
                  <a:lnTo>
                    <a:pt x="1501" y="1104"/>
                  </a:lnTo>
                  <a:lnTo>
                    <a:pt x="1505" y="1104"/>
                  </a:lnTo>
                  <a:lnTo>
                    <a:pt x="1506" y="1102"/>
                  </a:lnTo>
                  <a:lnTo>
                    <a:pt x="1508" y="1102"/>
                  </a:lnTo>
                  <a:lnTo>
                    <a:pt x="1515" y="1097"/>
                  </a:lnTo>
                  <a:lnTo>
                    <a:pt x="1516" y="1097"/>
                  </a:lnTo>
                  <a:lnTo>
                    <a:pt x="1520" y="1095"/>
                  </a:lnTo>
                  <a:lnTo>
                    <a:pt x="1523" y="1095"/>
                  </a:lnTo>
                  <a:lnTo>
                    <a:pt x="1526" y="1088"/>
                  </a:lnTo>
                  <a:lnTo>
                    <a:pt x="1530" y="1088"/>
                  </a:lnTo>
                  <a:lnTo>
                    <a:pt x="1538" y="1079"/>
                  </a:lnTo>
                  <a:lnTo>
                    <a:pt x="1541" y="1079"/>
                  </a:lnTo>
                  <a:lnTo>
                    <a:pt x="1553" y="1067"/>
                  </a:lnTo>
                  <a:lnTo>
                    <a:pt x="1556" y="1067"/>
                  </a:lnTo>
                  <a:lnTo>
                    <a:pt x="1576" y="1044"/>
                  </a:lnTo>
                  <a:lnTo>
                    <a:pt x="1576" y="1043"/>
                  </a:lnTo>
                  <a:lnTo>
                    <a:pt x="1590" y="1027"/>
                  </a:lnTo>
                  <a:lnTo>
                    <a:pt x="1590" y="1025"/>
                  </a:lnTo>
                  <a:lnTo>
                    <a:pt x="1598" y="1018"/>
                  </a:lnTo>
                  <a:lnTo>
                    <a:pt x="1598" y="1015"/>
                  </a:lnTo>
                  <a:lnTo>
                    <a:pt x="1603" y="1009"/>
                  </a:lnTo>
                  <a:lnTo>
                    <a:pt x="1603" y="1006"/>
                  </a:lnTo>
                  <a:lnTo>
                    <a:pt x="1605" y="1002"/>
                  </a:lnTo>
                  <a:lnTo>
                    <a:pt x="1605" y="1001"/>
                  </a:lnTo>
                  <a:lnTo>
                    <a:pt x="1610" y="994"/>
                  </a:lnTo>
                  <a:lnTo>
                    <a:pt x="1610" y="992"/>
                  </a:lnTo>
                  <a:lnTo>
                    <a:pt x="1613" y="990"/>
                  </a:lnTo>
                  <a:lnTo>
                    <a:pt x="1613" y="987"/>
                  </a:lnTo>
                  <a:lnTo>
                    <a:pt x="1616" y="983"/>
                  </a:lnTo>
                  <a:lnTo>
                    <a:pt x="1616" y="981"/>
                  </a:lnTo>
                  <a:lnTo>
                    <a:pt x="1618" y="978"/>
                  </a:lnTo>
                  <a:lnTo>
                    <a:pt x="1618" y="974"/>
                  </a:lnTo>
                  <a:lnTo>
                    <a:pt x="1621" y="973"/>
                  </a:lnTo>
                  <a:lnTo>
                    <a:pt x="1621" y="969"/>
                  </a:lnTo>
                  <a:lnTo>
                    <a:pt x="1625" y="966"/>
                  </a:lnTo>
                  <a:lnTo>
                    <a:pt x="1625" y="962"/>
                  </a:lnTo>
                  <a:lnTo>
                    <a:pt x="1626" y="959"/>
                  </a:lnTo>
                  <a:lnTo>
                    <a:pt x="1626" y="957"/>
                  </a:lnTo>
                  <a:lnTo>
                    <a:pt x="1628" y="953"/>
                  </a:lnTo>
                  <a:lnTo>
                    <a:pt x="1628" y="945"/>
                  </a:lnTo>
                  <a:lnTo>
                    <a:pt x="1635" y="948"/>
                  </a:lnTo>
                  <a:lnTo>
                    <a:pt x="1640" y="950"/>
                  </a:lnTo>
                  <a:lnTo>
                    <a:pt x="1643" y="953"/>
                  </a:lnTo>
                  <a:lnTo>
                    <a:pt x="1650" y="957"/>
                  </a:lnTo>
                  <a:lnTo>
                    <a:pt x="1655" y="959"/>
                  </a:lnTo>
                  <a:lnTo>
                    <a:pt x="1660" y="962"/>
                  </a:lnTo>
                  <a:lnTo>
                    <a:pt x="1665" y="966"/>
                  </a:lnTo>
                  <a:lnTo>
                    <a:pt x="1670" y="966"/>
                  </a:lnTo>
                  <a:lnTo>
                    <a:pt x="1676" y="969"/>
                  </a:lnTo>
                  <a:lnTo>
                    <a:pt x="1681" y="969"/>
                  </a:lnTo>
                  <a:lnTo>
                    <a:pt x="1688" y="973"/>
                  </a:lnTo>
                  <a:lnTo>
                    <a:pt x="1695" y="974"/>
                  </a:lnTo>
                  <a:lnTo>
                    <a:pt x="1700" y="978"/>
                  </a:lnTo>
                  <a:lnTo>
                    <a:pt x="1703" y="978"/>
                  </a:lnTo>
                  <a:lnTo>
                    <a:pt x="1710" y="981"/>
                  </a:lnTo>
                  <a:lnTo>
                    <a:pt x="1715" y="983"/>
                  </a:lnTo>
                  <a:lnTo>
                    <a:pt x="1723" y="983"/>
                  </a:lnTo>
                  <a:lnTo>
                    <a:pt x="1728" y="987"/>
                  </a:lnTo>
                  <a:lnTo>
                    <a:pt x="1738" y="987"/>
                  </a:lnTo>
                  <a:lnTo>
                    <a:pt x="1743" y="990"/>
                  </a:lnTo>
                  <a:lnTo>
                    <a:pt x="1751" y="990"/>
                  </a:lnTo>
                  <a:lnTo>
                    <a:pt x="1756" y="992"/>
                  </a:lnTo>
                  <a:lnTo>
                    <a:pt x="1775" y="992"/>
                  </a:lnTo>
                  <a:lnTo>
                    <a:pt x="1780" y="994"/>
                  </a:lnTo>
                  <a:lnTo>
                    <a:pt x="1826" y="994"/>
                  </a:lnTo>
                  <a:lnTo>
                    <a:pt x="1845" y="992"/>
                  </a:lnTo>
                  <a:lnTo>
                    <a:pt x="1861" y="992"/>
                  </a:lnTo>
                  <a:lnTo>
                    <a:pt x="1880" y="987"/>
                  </a:lnTo>
                  <a:lnTo>
                    <a:pt x="1895" y="983"/>
                  </a:lnTo>
                  <a:lnTo>
                    <a:pt x="1913" y="978"/>
                  </a:lnTo>
                  <a:lnTo>
                    <a:pt x="1928" y="973"/>
                  </a:lnTo>
                  <a:lnTo>
                    <a:pt x="1943" y="966"/>
                  </a:lnTo>
                  <a:lnTo>
                    <a:pt x="1960" y="962"/>
                  </a:lnTo>
                  <a:lnTo>
                    <a:pt x="1976" y="953"/>
                  </a:lnTo>
                  <a:lnTo>
                    <a:pt x="1988" y="945"/>
                  </a:lnTo>
                  <a:lnTo>
                    <a:pt x="2003" y="938"/>
                  </a:lnTo>
                  <a:lnTo>
                    <a:pt x="2018" y="925"/>
                  </a:lnTo>
                  <a:lnTo>
                    <a:pt x="2030" y="913"/>
                  </a:lnTo>
                  <a:lnTo>
                    <a:pt x="2043" y="906"/>
                  </a:lnTo>
                  <a:lnTo>
                    <a:pt x="2066" y="882"/>
                  </a:lnTo>
                  <a:lnTo>
                    <a:pt x="2078" y="868"/>
                  </a:lnTo>
                  <a:lnTo>
                    <a:pt x="2086" y="857"/>
                  </a:lnTo>
                  <a:lnTo>
                    <a:pt x="2098" y="843"/>
                  </a:lnTo>
                  <a:lnTo>
                    <a:pt x="2108" y="829"/>
                  </a:lnTo>
                  <a:lnTo>
                    <a:pt x="2116" y="815"/>
                  </a:lnTo>
                  <a:lnTo>
                    <a:pt x="2123" y="799"/>
                  </a:lnTo>
                  <a:lnTo>
                    <a:pt x="2130" y="784"/>
                  </a:lnTo>
                  <a:lnTo>
                    <a:pt x="2138" y="768"/>
                  </a:lnTo>
                  <a:lnTo>
                    <a:pt x="2141" y="750"/>
                  </a:lnTo>
                  <a:lnTo>
                    <a:pt x="2146" y="735"/>
                  </a:lnTo>
                  <a:lnTo>
                    <a:pt x="2150" y="719"/>
                  </a:lnTo>
                  <a:lnTo>
                    <a:pt x="2153" y="701"/>
                  </a:lnTo>
                  <a:lnTo>
                    <a:pt x="2155" y="686"/>
                  </a:lnTo>
                  <a:lnTo>
                    <a:pt x="2158" y="666"/>
                  </a:lnTo>
                  <a:lnTo>
                    <a:pt x="2158" y="621"/>
                  </a:lnTo>
                  <a:lnTo>
                    <a:pt x="2155" y="610"/>
                  </a:lnTo>
                  <a:lnTo>
                    <a:pt x="2153" y="596"/>
                  </a:lnTo>
                  <a:lnTo>
                    <a:pt x="2153" y="584"/>
                  </a:lnTo>
                  <a:lnTo>
                    <a:pt x="2150" y="572"/>
                  </a:lnTo>
                  <a:lnTo>
                    <a:pt x="2145" y="558"/>
                  </a:lnTo>
                  <a:lnTo>
                    <a:pt x="2141" y="547"/>
                  </a:lnTo>
                  <a:lnTo>
                    <a:pt x="2138" y="533"/>
                  </a:lnTo>
                  <a:lnTo>
                    <a:pt x="2135" y="523"/>
                  </a:lnTo>
                  <a:lnTo>
                    <a:pt x="2130" y="511"/>
                  </a:lnTo>
                  <a:lnTo>
                    <a:pt x="2123" y="500"/>
                  </a:lnTo>
                  <a:lnTo>
                    <a:pt x="2116" y="490"/>
                  </a:lnTo>
                  <a:lnTo>
                    <a:pt x="2111" y="476"/>
                  </a:lnTo>
                  <a:lnTo>
                    <a:pt x="2103" y="463"/>
                  </a:lnTo>
                  <a:lnTo>
                    <a:pt x="2098" y="455"/>
                  </a:lnTo>
                  <a:lnTo>
                    <a:pt x="2090" y="446"/>
                  </a:lnTo>
                  <a:lnTo>
                    <a:pt x="2081" y="434"/>
                  </a:lnTo>
                  <a:lnTo>
                    <a:pt x="2056" y="406"/>
                  </a:lnTo>
                  <a:lnTo>
                    <a:pt x="2045" y="399"/>
                  </a:lnTo>
                  <a:lnTo>
                    <a:pt x="2038" y="390"/>
                  </a:lnTo>
                  <a:lnTo>
                    <a:pt x="2028" y="381"/>
                  </a:lnTo>
                  <a:lnTo>
                    <a:pt x="2018" y="372"/>
                  </a:lnTo>
                  <a:lnTo>
                    <a:pt x="2006" y="365"/>
                  </a:lnTo>
                  <a:lnTo>
                    <a:pt x="1996" y="357"/>
                  </a:lnTo>
                  <a:lnTo>
                    <a:pt x="1983" y="351"/>
                  </a:lnTo>
                  <a:lnTo>
                    <a:pt x="1973" y="346"/>
                  </a:lnTo>
                  <a:lnTo>
                    <a:pt x="1960" y="341"/>
                  </a:lnTo>
                  <a:lnTo>
                    <a:pt x="1950" y="334"/>
                  </a:lnTo>
                  <a:lnTo>
                    <a:pt x="1936" y="329"/>
                  </a:lnTo>
                  <a:lnTo>
                    <a:pt x="1940" y="332"/>
                  </a:lnTo>
                  <a:lnTo>
                    <a:pt x="1940" y="323"/>
                  </a:lnTo>
                  <a:lnTo>
                    <a:pt x="1941" y="320"/>
                  </a:lnTo>
                  <a:lnTo>
                    <a:pt x="1941" y="276"/>
                  </a:lnTo>
                  <a:lnTo>
                    <a:pt x="1940" y="273"/>
                  </a:lnTo>
                  <a:lnTo>
                    <a:pt x="1940" y="260"/>
                  </a:lnTo>
                  <a:lnTo>
                    <a:pt x="1936" y="257"/>
                  </a:lnTo>
                  <a:lnTo>
                    <a:pt x="1936" y="248"/>
                  </a:lnTo>
                  <a:lnTo>
                    <a:pt x="1933" y="246"/>
                  </a:lnTo>
                  <a:lnTo>
                    <a:pt x="1933" y="239"/>
                  </a:lnTo>
                  <a:lnTo>
                    <a:pt x="1931" y="238"/>
                  </a:lnTo>
                  <a:lnTo>
                    <a:pt x="1931" y="232"/>
                  </a:lnTo>
                  <a:lnTo>
                    <a:pt x="1928" y="229"/>
                  </a:lnTo>
                  <a:lnTo>
                    <a:pt x="1928" y="224"/>
                  </a:lnTo>
                  <a:lnTo>
                    <a:pt x="1925" y="220"/>
                  </a:lnTo>
                  <a:lnTo>
                    <a:pt x="1925" y="218"/>
                  </a:lnTo>
                  <a:lnTo>
                    <a:pt x="1923" y="215"/>
                  </a:lnTo>
                  <a:lnTo>
                    <a:pt x="1923" y="211"/>
                  </a:lnTo>
                  <a:lnTo>
                    <a:pt x="1921" y="211"/>
                  </a:lnTo>
                  <a:lnTo>
                    <a:pt x="1921" y="208"/>
                  </a:lnTo>
                  <a:lnTo>
                    <a:pt x="1918" y="204"/>
                  </a:lnTo>
                  <a:lnTo>
                    <a:pt x="1918" y="203"/>
                  </a:lnTo>
                  <a:lnTo>
                    <a:pt x="1916" y="199"/>
                  </a:lnTo>
                  <a:lnTo>
                    <a:pt x="1916" y="196"/>
                  </a:lnTo>
                  <a:lnTo>
                    <a:pt x="1913" y="194"/>
                  </a:lnTo>
                  <a:lnTo>
                    <a:pt x="1913" y="190"/>
                  </a:lnTo>
                  <a:lnTo>
                    <a:pt x="1908" y="185"/>
                  </a:lnTo>
                  <a:lnTo>
                    <a:pt x="1908" y="183"/>
                  </a:lnTo>
                  <a:lnTo>
                    <a:pt x="1900" y="175"/>
                  </a:lnTo>
                  <a:lnTo>
                    <a:pt x="1900" y="171"/>
                  </a:lnTo>
                  <a:lnTo>
                    <a:pt x="1886" y="157"/>
                  </a:lnTo>
                  <a:lnTo>
                    <a:pt x="1886" y="155"/>
                  </a:lnTo>
                  <a:lnTo>
                    <a:pt x="1880" y="147"/>
                  </a:lnTo>
                  <a:lnTo>
                    <a:pt x="1876" y="147"/>
                  </a:lnTo>
                  <a:lnTo>
                    <a:pt x="1861" y="129"/>
                  </a:lnTo>
                  <a:lnTo>
                    <a:pt x="1858" y="129"/>
                  </a:lnTo>
                  <a:lnTo>
                    <a:pt x="1850" y="122"/>
                  </a:lnTo>
                  <a:lnTo>
                    <a:pt x="1848" y="122"/>
                  </a:lnTo>
                  <a:lnTo>
                    <a:pt x="1841" y="117"/>
                  </a:lnTo>
                  <a:lnTo>
                    <a:pt x="1840" y="117"/>
                  </a:lnTo>
                  <a:lnTo>
                    <a:pt x="1838" y="113"/>
                  </a:lnTo>
                  <a:lnTo>
                    <a:pt x="1835" y="113"/>
                  </a:lnTo>
                  <a:lnTo>
                    <a:pt x="1831" y="110"/>
                  </a:lnTo>
                  <a:lnTo>
                    <a:pt x="1830" y="110"/>
                  </a:lnTo>
                  <a:lnTo>
                    <a:pt x="1826" y="108"/>
                  </a:lnTo>
                  <a:lnTo>
                    <a:pt x="1823" y="108"/>
                  </a:lnTo>
                  <a:lnTo>
                    <a:pt x="1823" y="105"/>
                  </a:lnTo>
                  <a:lnTo>
                    <a:pt x="1820" y="105"/>
                  </a:lnTo>
                  <a:lnTo>
                    <a:pt x="1816" y="103"/>
                  </a:lnTo>
                  <a:lnTo>
                    <a:pt x="1815" y="103"/>
                  </a:lnTo>
                  <a:lnTo>
                    <a:pt x="1811" y="99"/>
                  </a:lnTo>
                  <a:lnTo>
                    <a:pt x="1808" y="99"/>
                  </a:lnTo>
                  <a:lnTo>
                    <a:pt x="1805" y="98"/>
                  </a:lnTo>
                  <a:lnTo>
                    <a:pt x="1801" y="98"/>
                  </a:lnTo>
                  <a:lnTo>
                    <a:pt x="1798" y="94"/>
                  </a:lnTo>
                  <a:lnTo>
                    <a:pt x="1793" y="94"/>
                  </a:lnTo>
                  <a:lnTo>
                    <a:pt x="1790" y="91"/>
                  </a:lnTo>
                  <a:lnTo>
                    <a:pt x="1785" y="91"/>
                  </a:lnTo>
                  <a:lnTo>
                    <a:pt x="1783" y="89"/>
                  </a:lnTo>
                  <a:lnTo>
                    <a:pt x="1775" y="89"/>
                  </a:lnTo>
                  <a:lnTo>
                    <a:pt x="1771" y="85"/>
                  </a:lnTo>
                  <a:lnTo>
                    <a:pt x="1763" y="85"/>
                  </a:lnTo>
                  <a:lnTo>
                    <a:pt x="1763" y="82"/>
                  </a:lnTo>
                  <a:lnTo>
                    <a:pt x="1746" y="82"/>
                  </a:lnTo>
                  <a:lnTo>
                    <a:pt x="1743" y="80"/>
                  </a:lnTo>
                  <a:lnTo>
                    <a:pt x="1695" y="80"/>
                  </a:lnTo>
                  <a:lnTo>
                    <a:pt x="1691" y="82"/>
                  </a:lnTo>
                  <a:lnTo>
                    <a:pt x="1676" y="82"/>
                  </a:lnTo>
                  <a:lnTo>
                    <a:pt x="1673" y="85"/>
                  </a:lnTo>
                  <a:lnTo>
                    <a:pt x="1665" y="85"/>
                  </a:lnTo>
                  <a:lnTo>
                    <a:pt x="1663" y="89"/>
                  </a:lnTo>
                  <a:lnTo>
                    <a:pt x="1655" y="89"/>
                  </a:lnTo>
                  <a:lnTo>
                    <a:pt x="1651" y="91"/>
                  </a:lnTo>
                  <a:lnTo>
                    <a:pt x="1646" y="91"/>
                  </a:lnTo>
                  <a:lnTo>
                    <a:pt x="1643" y="94"/>
                  </a:lnTo>
                  <a:lnTo>
                    <a:pt x="1640" y="94"/>
                  </a:lnTo>
                  <a:lnTo>
                    <a:pt x="1636" y="98"/>
                  </a:lnTo>
                  <a:lnTo>
                    <a:pt x="1631" y="98"/>
                  </a:lnTo>
                  <a:lnTo>
                    <a:pt x="1628" y="99"/>
                  </a:lnTo>
                  <a:lnTo>
                    <a:pt x="1626" y="99"/>
                  </a:lnTo>
                  <a:lnTo>
                    <a:pt x="1625" y="103"/>
                  </a:lnTo>
                  <a:lnTo>
                    <a:pt x="1621" y="103"/>
                  </a:lnTo>
                  <a:lnTo>
                    <a:pt x="1618" y="105"/>
                  </a:lnTo>
                  <a:lnTo>
                    <a:pt x="1616" y="105"/>
                  </a:lnTo>
                  <a:lnTo>
                    <a:pt x="1613" y="108"/>
                  </a:lnTo>
                  <a:lnTo>
                    <a:pt x="1610" y="108"/>
                  </a:lnTo>
                  <a:lnTo>
                    <a:pt x="1608" y="110"/>
                  </a:lnTo>
                  <a:lnTo>
                    <a:pt x="1605" y="110"/>
                  </a:lnTo>
                  <a:lnTo>
                    <a:pt x="1603" y="113"/>
                  </a:lnTo>
                  <a:lnTo>
                    <a:pt x="1600" y="113"/>
                  </a:lnTo>
                  <a:lnTo>
                    <a:pt x="1598" y="117"/>
                  </a:lnTo>
                  <a:lnTo>
                    <a:pt x="1595" y="117"/>
                  </a:lnTo>
                  <a:lnTo>
                    <a:pt x="1590" y="122"/>
                  </a:lnTo>
                  <a:lnTo>
                    <a:pt x="1586" y="122"/>
                  </a:lnTo>
                  <a:lnTo>
                    <a:pt x="1580" y="129"/>
                  </a:lnTo>
                  <a:lnTo>
                    <a:pt x="1576" y="129"/>
                  </a:lnTo>
                  <a:lnTo>
                    <a:pt x="1580" y="129"/>
                  </a:lnTo>
                  <a:lnTo>
                    <a:pt x="1571" y="119"/>
                  </a:lnTo>
                </a:path>
              </a:pathLst>
            </a:custGeom>
            <a:gradFill rotWithShape="0">
              <a:gsLst>
                <a:gs pos="0">
                  <a:srgbClr val="ffcc99"/>
                </a:gs>
                <a:gs pos="50000">
                  <a:srgbClr val="fed0a2"/>
                </a:gs>
                <a:gs pos="100000">
                  <a:srgbClr val="ffcc99"/>
                </a:gs>
              </a:gsLst>
              <a:lin ang="108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3" name="" descr=""/>
            <p:cNvPicPr/>
            <p:nvPr/>
          </p:nvPicPr>
          <p:blipFill>
            <a:blip r:embed="rId6"/>
            <a:stretch/>
          </p:blipFill>
          <p:spPr>
            <a:xfrm>
              <a:off x="309600" y="3728880"/>
              <a:ext cx="2251080" cy="117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7"/>
            <a:stretch/>
          </p:blipFill>
          <p:spPr>
            <a:xfrm>
              <a:off x="47520" y="4668840"/>
              <a:ext cx="182736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8"/>
            <a:stretch/>
          </p:blipFill>
          <p:spPr>
            <a:xfrm>
              <a:off x="4389480" y="3780000"/>
              <a:ext cx="1569960" cy="15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 flipH="1">
              <a:off x="6751800" y="3151080"/>
              <a:ext cx="457200" cy="533520"/>
            </a:xfrm>
            <a:prstGeom prst="line">
              <a:avLst/>
            </a:prstGeom>
            <a:ln w="2556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9"/>
            <a:stretch/>
          </p:blipFill>
          <p:spPr>
            <a:xfrm>
              <a:off x="7602480" y="3498840"/>
              <a:ext cx="917640" cy="8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10"/>
            <a:stretch/>
          </p:blipFill>
          <p:spPr>
            <a:xfrm>
              <a:off x="4237200" y="4735440"/>
              <a:ext cx="609480" cy="3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11"/>
            <a:stretch/>
          </p:blipFill>
          <p:spPr>
            <a:xfrm>
              <a:off x="4998960" y="4032360"/>
              <a:ext cx="666720" cy="5140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70" name=""/>
            <p:cNvGraphicFramePr/>
            <p:nvPr/>
          </p:nvGraphicFramePr>
          <p:xfrm>
            <a:off x="2232000" y="5254560"/>
            <a:ext cx="936720" cy="7682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232000" y="5254560"/>
                      <a:ext cx="936720" cy="76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"/>
            <p:cNvSpPr/>
            <p:nvPr/>
          </p:nvSpPr>
          <p:spPr>
            <a:xfrm>
              <a:off x="2236320" y="4770360"/>
              <a:ext cx="132156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000080"/>
                  </a:solidFill>
                  <a:latin typeface="Arial"/>
                </a:rPr>
                <a:t>Ambul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000080"/>
                  </a:solidFill>
                  <a:latin typeface="Arial"/>
                </a:rPr>
                <a:t>mobile 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92800" y="4294080"/>
              <a:ext cx="138708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000080"/>
                  </a:solidFill>
                  <a:latin typeface="Arial"/>
                </a:rPr>
                <a:t>Hospit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000080"/>
                  </a:solidFill>
                  <a:latin typeface="Arial"/>
                </a:rPr>
                <a:t>Informati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000080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47640" y="5183280"/>
              <a:ext cx="18928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000080"/>
                  </a:solidFill>
                  <a:latin typeface="Arial"/>
                </a:rPr>
                <a:t>Hospi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000080"/>
                  </a:solidFill>
                  <a:latin typeface="Arial"/>
                </a:rPr>
                <a:t>consultation  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5" name=""/>
            <p:cNvGraphicFramePr/>
            <p:nvPr/>
          </p:nvGraphicFramePr>
          <p:xfrm>
            <a:off x="6537240" y="5068800"/>
            <a:ext cx="874800" cy="19692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76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6537240" y="5068800"/>
                      <a:ext cx="874800" cy="19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7" name=""/>
            <p:cNvSpPr/>
            <p:nvPr/>
          </p:nvSpPr>
          <p:spPr>
            <a:xfrm>
              <a:off x="5989680" y="4599000"/>
              <a:ext cx="685800" cy="457200"/>
            </a:xfrm>
            <a:prstGeom prst="line">
              <a:avLst/>
            </a:prstGeom>
            <a:ln w="2556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7373880" y="4319640"/>
              <a:ext cx="711360" cy="812880"/>
            </a:xfrm>
            <a:prstGeom prst="line">
              <a:avLst/>
            </a:prstGeom>
            <a:ln w="2556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485040" y="5208120"/>
              <a:ext cx="419040" cy="584280"/>
            </a:xfrm>
            <a:prstGeom prst="line">
              <a:avLst/>
            </a:prstGeom>
            <a:ln w="2556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399440" y="5183280"/>
              <a:ext cx="723960" cy="0"/>
            </a:xfrm>
            <a:prstGeom prst="line">
              <a:avLst/>
            </a:prstGeom>
            <a:ln w="2556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16"/>
            <a:stretch/>
          </p:blipFill>
          <p:spPr>
            <a:xfrm>
              <a:off x="3132000" y="1859040"/>
              <a:ext cx="7812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2845440" y="2879640"/>
              <a:ext cx="1285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80"/>
                  </a:solidFill>
                  <a:latin typeface="Arial"/>
                </a:rPr>
                <a:t>GSM links</a:t>
              </a:r>
              <a:r>
                <a:rPr b="0" i="1" lang="en-US" sz="1800" spc="-1" strike="noStrike">
                  <a:solidFill>
                    <a:srgbClr val="5e574e"/>
                  </a:solidFill>
                  <a:latin typeface="Book Antiqu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7056000" y="5208480"/>
              <a:ext cx="546120" cy="470160"/>
            </a:xfrm>
            <a:prstGeom prst="line">
              <a:avLst/>
            </a:prstGeom>
            <a:ln w="2556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4" name=""/>
            <p:cNvGraphicFramePr/>
            <p:nvPr/>
          </p:nvGraphicFramePr>
          <p:xfrm>
            <a:off x="6296040" y="3608280"/>
            <a:ext cx="622440" cy="5097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8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296040" y="3608280"/>
                      <a:ext cx="622440" cy="5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6" name=""/>
            <p:cNvSpPr/>
            <p:nvPr/>
          </p:nvSpPr>
          <p:spPr>
            <a:xfrm flipH="1">
              <a:off x="5989680" y="3989520"/>
              <a:ext cx="380880" cy="228600"/>
            </a:xfrm>
            <a:prstGeom prst="line">
              <a:avLst/>
            </a:prstGeom>
            <a:ln w="2556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2300400" y="3344760"/>
              <a:ext cx="790560" cy="820800"/>
              <a:chOff x="2300400" y="3344760"/>
              <a:chExt cx="790560" cy="820800"/>
            </a:xfrm>
          </p:grpSpPr>
          <p:sp>
            <p:nvSpPr>
              <p:cNvPr id="188" name=""/>
              <p:cNvSpPr/>
              <p:nvPr/>
            </p:nvSpPr>
            <p:spPr>
              <a:xfrm>
                <a:off x="2714760" y="3490920"/>
                <a:ext cx="136440" cy="135000"/>
              </a:xfrm>
              <a:custGeom>
                <a:avLst/>
                <a:gdLst/>
                <a:ahLst/>
                <a:rect l="l" t="t" r="r" b="b"/>
                <a:pathLst>
                  <a:path w="86" h="85">
                    <a:moveTo>
                      <a:pt x="0" y="46"/>
                    </a:moveTo>
                    <a:lnTo>
                      <a:pt x="15" y="0"/>
                    </a:lnTo>
                    <a:lnTo>
                      <a:pt x="85" y="42"/>
                    </a:lnTo>
                    <a:lnTo>
                      <a:pt x="77" y="61"/>
                    </a:lnTo>
                    <a:lnTo>
                      <a:pt x="64" y="84"/>
                    </a:lnTo>
                    <a:lnTo>
                      <a:pt x="0" y="46"/>
                    </a:lnTo>
                  </a:path>
                </a:pathLst>
              </a:custGeom>
              <a:gradFill rotWithShape="0">
                <a:gsLst>
                  <a:gs pos="0">
                    <a:srgbClr val="2323b1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953080" y="3618000"/>
                <a:ext cx="134640" cy="129960"/>
              </a:xfrm>
              <a:custGeom>
                <a:avLst/>
                <a:gdLst/>
                <a:ahLst/>
                <a:rect l="l" t="t" r="r" b="b"/>
                <a:pathLst>
                  <a:path w="85" h="82">
                    <a:moveTo>
                      <a:pt x="71" y="81"/>
                    </a:moveTo>
                    <a:lnTo>
                      <a:pt x="84" y="39"/>
                    </a:lnTo>
                    <a:lnTo>
                      <a:pt x="18" y="0"/>
                    </a:lnTo>
                    <a:lnTo>
                      <a:pt x="0" y="52"/>
                    </a:lnTo>
                    <a:lnTo>
                      <a:pt x="71" y="81"/>
                    </a:lnTo>
                  </a:path>
                </a:pathLst>
              </a:custGeom>
              <a:gradFill rotWithShape="0">
                <a:gsLst>
                  <a:gs pos="0">
                    <a:srgbClr val="2323b1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0" name=""/>
              <p:cNvGrpSpPr/>
              <p:nvPr/>
            </p:nvGrpSpPr>
            <p:grpSpPr>
              <a:xfrm>
                <a:off x="2300400" y="3344760"/>
                <a:ext cx="790560" cy="820800"/>
                <a:chOff x="2300400" y="3344760"/>
                <a:chExt cx="790560" cy="82080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2300400" y="3427560"/>
                  <a:ext cx="763560" cy="738000"/>
                </a:xfrm>
                <a:custGeom>
                  <a:avLst/>
                  <a:gdLst/>
                  <a:ahLst/>
                  <a:rect l="l" t="t" r="r" b="b"/>
                  <a:pathLst>
                    <a:path w="481" h="465">
                      <a:moveTo>
                        <a:pt x="0" y="456"/>
                      </a:moveTo>
                      <a:lnTo>
                        <a:pt x="21" y="461"/>
                      </a:lnTo>
                      <a:lnTo>
                        <a:pt x="32" y="463"/>
                      </a:lnTo>
                      <a:lnTo>
                        <a:pt x="44" y="464"/>
                      </a:lnTo>
                      <a:lnTo>
                        <a:pt x="56" y="463"/>
                      </a:lnTo>
                      <a:lnTo>
                        <a:pt x="69" y="462"/>
                      </a:lnTo>
                      <a:lnTo>
                        <a:pt x="82" y="460"/>
                      </a:lnTo>
                      <a:lnTo>
                        <a:pt x="95" y="455"/>
                      </a:lnTo>
                      <a:lnTo>
                        <a:pt x="107" y="452"/>
                      </a:lnTo>
                      <a:lnTo>
                        <a:pt x="124" y="444"/>
                      </a:lnTo>
                      <a:lnTo>
                        <a:pt x="140" y="434"/>
                      </a:lnTo>
                      <a:lnTo>
                        <a:pt x="155" y="427"/>
                      </a:lnTo>
                      <a:lnTo>
                        <a:pt x="173" y="414"/>
                      </a:lnTo>
                      <a:lnTo>
                        <a:pt x="191" y="403"/>
                      </a:lnTo>
                      <a:lnTo>
                        <a:pt x="209" y="389"/>
                      </a:lnTo>
                      <a:lnTo>
                        <a:pt x="222" y="376"/>
                      </a:lnTo>
                      <a:lnTo>
                        <a:pt x="241" y="362"/>
                      </a:lnTo>
                      <a:lnTo>
                        <a:pt x="254" y="350"/>
                      </a:lnTo>
                      <a:lnTo>
                        <a:pt x="272" y="335"/>
                      </a:lnTo>
                      <a:lnTo>
                        <a:pt x="287" y="321"/>
                      </a:lnTo>
                      <a:lnTo>
                        <a:pt x="306" y="301"/>
                      </a:lnTo>
                      <a:lnTo>
                        <a:pt x="321" y="286"/>
                      </a:lnTo>
                      <a:lnTo>
                        <a:pt x="339" y="265"/>
                      </a:lnTo>
                      <a:lnTo>
                        <a:pt x="355" y="246"/>
                      </a:lnTo>
                      <a:lnTo>
                        <a:pt x="370" y="229"/>
                      </a:lnTo>
                      <a:lnTo>
                        <a:pt x="385" y="209"/>
                      </a:lnTo>
                      <a:lnTo>
                        <a:pt x="398" y="191"/>
                      </a:lnTo>
                      <a:lnTo>
                        <a:pt x="409" y="171"/>
                      </a:lnTo>
                      <a:lnTo>
                        <a:pt x="480" y="204"/>
                      </a:lnTo>
                      <a:lnTo>
                        <a:pt x="474" y="190"/>
                      </a:lnTo>
                      <a:lnTo>
                        <a:pt x="468" y="176"/>
                      </a:lnTo>
                      <a:lnTo>
                        <a:pt x="459" y="163"/>
                      </a:lnTo>
                      <a:lnTo>
                        <a:pt x="455" y="149"/>
                      </a:lnTo>
                      <a:lnTo>
                        <a:pt x="451" y="137"/>
                      </a:lnTo>
                      <a:lnTo>
                        <a:pt x="447" y="129"/>
                      </a:lnTo>
                      <a:lnTo>
                        <a:pt x="446" y="113"/>
                      </a:lnTo>
                      <a:lnTo>
                        <a:pt x="442" y="102"/>
                      </a:lnTo>
                      <a:lnTo>
                        <a:pt x="438" y="87"/>
                      </a:lnTo>
                      <a:lnTo>
                        <a:pt x="438" y="70"/>
                      </a:lnTo>
                      <a:lnTo>
                        <a:pt x="434" y="52"/>
                      </a:lnTo>
                      <a:lnTo>
                        <a:pt x="432" y="34"/>
                      </a:lnTo>
                      <a:lnTo>
                        <a:pt x="432" y="15"/>
                      </a:lnTo>
                      <a:lnTo>
                        <a:pt x="432" y="0"/>
                      </a:lnTo>
                      <a:lnTo>
                        <a:pt x="423" y="4"/>
                      </a:lnTo>
                      <a:lnTo>
                        <a:pt x="413" y="14"/>
                      </a:lnTo>
                      <a:lnTo>
                        <a:pt x="404" y="19"/>
                      </a:lnTo>
                      <a:lnTo>
                        <a:pt x="395" y="25"/>
                      </a:lnTo>
                      <a:lnTo>
                        <a:pt x="383" y="35"/>
                      </a:lnTo>
                      <a:lnTo>
                        <a:pt x="372" y="41"/>
                      </a:lnTo>
                      <a:lnTo>
                        <a:pt x="364" y="45"/>
                      </a:lnTo>
                      <a:lnTo>
                        <a:pt x="353" y="52"/>
                      </a:lnTo>
                      <a:lnTo>
                        <a:pt x="342" y="57"/>
                      </a:lnTo>
                      <a:lnTo>
                        <a:pt x="333" y="60"/>
                      </a:lnTo>
                      <a:lnTo>
                        <a:pt x="321" y="66"/>
                      </a:lnTo>
                      <a:lnTo>
                        <a:pt x="312" y="71"/>
                      </a:lnTo>
                      <a:lnTo>
                        <a:pt x="302" y="72"/>
                      </a:lnTo>
                      <a:lnTo>
                        <a:pt x="292" y="76"/>
                      </a:lnTo>
                      <a:lnTo>
                        <a:pt x="282" y="82"/>
                      </a:lnTo>
                      <a:lnTo>
                        <a:pt x="273" y="85"/>
                      </a:lnTo>
                      <a:lnTo>
                        <a:pt x="260" y="87"/>
                      </a:lnTo>
                      <a:lnTo>
                        <a:pt x="332" y="130"/>
                      </a:lnTo>
                      <a:lnTo>
                        <a:pt x="315" y="159"/>
                      </a:lnTo>
                      <a:lnTo>
                        <a:pt x="302" y="180"/>
                      </a:lnTo>
                      <a:lnTo>
                        <a:pt x="278" y="218"/>
                      </a:lnTo>
                      <a:lnTo>
                        <a:pt x="265" y="235"/>
                      </a:lnTo>
                      <a:lnTo>
                        <a:pt x="251" y="251"/>
                      </a:lnTo>
                      <a:lnTo>
                        <a:pt x="235" y="273"/>
                      </a:lnTo>
                      <a:lnTo>
                        <a:pt x="216" y="297"/>
                      </a:lnTo>
                      <a:lnTo>
                        <a:pt x="200" y="313"/>
                      </a:lnTo>
                      <a:lnTo>
                        <a:pt x="176" y="336"/>
                      </a:lnTo>
                      <a:lnTo>
                        <a:pt x="160" y="351"/>
                      </a:lnTo>
                      <a:lnTo>
                        <a:pt x="144" y="365"/>
                      </a:lnTo>
                      <a:lnTo>
                        <a:pt x="129" y="378"/>
                      </a:lnTo>
                      <a:lnTo>
                        <a:pt x="121" y="383"/>
                      </a:lnTo>
                      <a:lnTo>
                        <a:pt x="104" y="391"/>
                      </a:lnTo>
                      <a:lnTo>
                        <a:pt x="89" y="399"/>
                      </a:lnTo>
                      <a:lnTo>
                        <a:pt x="74" y="409"/>
                      </a:lnTo>
                      <a:lnTo>
                        <a:pt x="54" y="415"/>
                      </a:lnTo>
                      <a:lnTo>
                        <a:pt x="40" y="418"/>
                      </a:lnTo>
                      <a:lnTo>
                        <a:pt x="14" y="419"/>
                      </a:lnTo>
                      <a:lnTo>
                        <a:pt x="0" y="456"/>
                      </a:lnTo>
                    </a:path>
                  </a:pathLst>
                </a:custGeom>
                <a:gradFill rotWithShape="0">
                  <a:gsLst>
                    <a:gs pos="0">
                      <a:srgbClr val="2323b1"/>
                    </a:gs>
                    <a:gs pos="100000">
                      <a:srgbClr val="3333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320920" y="3344760"/>
                  <a:ext cx="770040" cy="763560"/>
                </a:xfrm>
                <a:custGeom>
                  <a:avLst/>
                  <a:gdLst/>
                  <a:ahLst/>
                  <a:rect l="l" t="t" r="r" b="b"/>
                  <a:pathLst>
                    <a:path w="485" h="481">
                      <a:moveTo>
                        <a:pt x="0" y="474"/>
                      </a:moveTo>
                      <a:lnTo>
                        <a:pt x="21" y="476"/>
                      </a:lnTo>
                      <a:lnTo>
                        <a:pt x="30" y="479"/>
                      </a:lnTo>
                      <a:lnTo>
                        <a:pt x="44" y="480"/>
                      </a:lnTo>
                      <a:lnTo>
                        <a:pt x="55" y="480"/>
                      </a:lnTo>
                      <a:lnTo>
                        <a:pt x="68" y="479"/>
                      </a:lnTo>
                      <a:lnTo>
                        <a:pt x="82" y="476"/>
                      </a:lnTo>
                      <a:lnTo>
                        <a:pt x="94" y="472"/>
                      </a:lnTo>
                      <a:lnTo>
                        <a:pt x="108" y="467"/>
                      </a:lnTo>
                      <a:lnTo>
                        <a:pt x="125" y="460"/>
                      </a:lnTo>
                      <a:lnTo>
                        <a:pt x="141" y="449"/>
                      </a:lnTo>
                      <a:lnTo>
                        <a:pt x="157" y="441"/>
                      </a:lnTo>
                      <a:lnTo>
                        <a:pt x="176" y="428"/>
                      </a:lnTo>
                      <a:lnTo>
                        <a:pt x="190" y="417"/>
                      </a:lnTo>
                      <a:lnTo>
                        <a:pt x="208" y="404"/>
                      </a:lnTo>
                      <a:lnTo>
                        <a:pt x="226" y="389"/>
                      </a:lnTo>
                      <a:lnTo>
                        <a:pt x="242" y="376"/>
                      </a:lnTo>
                      <a:lnTo>
                        <a:pt x="255" y="364"/>
                      </a:lnTo>
                      <a:lnTo>
                        <a:pt x="273" y="347"/>
                      </a:lnTo>
                      <a:lnTo>
                        <a:pt x="290" y="331"/>
                      </a:lnTo>
                      <a:lnTo>
                        <a:pt x="307" y="312"/>
                      </a:lnTo>
                      <a:lnTo>
                        <a:pt x="323" y="298"/>
                      </a:lnTo>
                      <a:lnTo>
                        <a:pt x="340" y="276"/>
                      </a:lnTo>
                      <a:lnTo>
                        <a:pt x="358" y="256"/>
                      </a:lnTo>
                      <a:lnTo>
                        <a:pt x="373" y="238"/>
                      </a:lnTo>
                      <a:lnTo>
                        <a:pt x="389" y="217"/>
                      </a:lnTo>
                      <a:lnTo>
                        <a:pt x="402" y="199"/>
                      </a:lnTo>
                      <a:lnTo>
                        <a:pt x="413" y="178"/>
                      </a:lnTo>
                      <a:lnTo>
                        <a:pt x="484" y="214"/>
                      </a:lnTo>
                      <a:lnTo>
                        <a:pt x="477" y="197"/>
                      </a:lnTo>
                      <a:lnTo>
                        <a:pt x="471" y="184"/>
                      </a:lnTo>
                      <a:lnTo>
                        <a:pt x="463" y="170"/>
                      </a:lnTo>
                      <a:lnTo>
                        <a:pt x="459" y="156"/>
                      </a:lnTo>
                      <a:lnTo>
                        <a:pt x="455" y="144"/>
                      </a:lnTo>
                      <a:lnTo>
                        <a:pt x="452" y="131"/>
                      </a:lnTo>
                      <a:lnTo>
                        <a:pt x="449" y="119"/>
                      </a:lnTo>
                      <a:lnTo>
                        <a:pt x="447" y="108"/>
                      </a:lnTo>
                      <a:lnTo>
                        <a:pt x="443" y="92"/>
                      </a:lnTo>
                      <a:lnTo>
                        <a:pt x="441" y="73"/>
                      </a:lnTo>
                      <a:lnTo>
                        <a:pt x="439" y="56"/>
                      </a:lnTo>
                      <a:lnTo>
                        <a:pt x="438" y="37"/>
                      </a:lnTo>
                      <a:lnTo>
                        <a:pt x="436" y="19"/>
                      </a:lnTo>
                      <a:lnTo>
                        <a:pt x="436" y="0"/>
                      </a:lnTo>
                      <a:lnTo>
                        <a:pt x="428" y="6"/>
                      </a:lnTo>
                      <a:lnTo>
                        <a:pt x="418" y="14"/>
                      </a:lnTo>
                      <a:lnTo>
                        <a:pt x="408" y="23"/>
                      </a:lnTo>
                      <a:lnTo>
                        <a:pt x="398" y="31"/>
                      </a:lnTo>
                      <a:lnTo>
                        <a:pt x="387" y="36"/>
                      </a:lnTo>
                      <a:lnTo>
                        <a:pt x="378" y="45"/>
                      </a:lnTo>
                      <a:lnTo>
                        <a:pt x="368" y="49"/>
                      </a:lnTo>
                      <a:lnTo>
                        <a:pt x="359" y="54"/>
                      </a:lnTo>
                      <a:lnTo>
                        <a:pt x="347" y="59"/>
                      </a:lnTo>
                      <a:lnTo>
                        <a:pt x="337" y="65"/>
                      </a:lnTo>
                      <a:lnTo>
                        <a:pt x="326" y="69"/>
                      </a:lnTo>
                      <a:lnTo>
                        <a:pt x="316" y="73"/>
                      </a:lnTo>
                      <a:lnTo>
                        <a:pt x="307" y="77"/>
                      </a:lnTo>
                      <a:lnTo>
                        <a:pt x="297" y="81"/>
                      </a:lnTo>
                      <a:lnTo>
                        <a:pt x="288" y="83"/>
                      </a:lnTo>
                      <a:lnTo>
                        <a:pt x="276" y="89"/>
                      </a:lnTo>
                      <a:lnTo>
                        <a:pt x="263" y="91"/>
                      </a:lnTo>
                      <a:lnTo>
                        <a:pt x="335" y="136"/>
                      </a:lnTo>
                      <a:lnTo>
                        <a:pt x="319" y="166"/>
                      </a:lnTo>
                      <a:lnTo>
                        <a:pt x="306" y="188"/>
                      </a:lnTo>
                      <a:lnTo>
                        <a:pt x="280" y="226"/>
                      </a:lnTo>
                      <a:lnTo>
                        <a:pt x="267" y="244"/>
                      </a:lnTo>
                      <a:lnTo>
                        <a:pt x="254" y="260"/>
                      </a:lnTo>
                      <a:lnTo>
                        <a:pt x="231" y="290"/>
                      </a:lnTo>
                      <a:lnTo>
                        <a:pt x="217" y="309"/>
                      </a:lnTo>
                      <a:lnTo>
                        <a:pt x="201" y="329"/>
                      </a:lnTo>
                      <a:lnTo>
                        <a:pt x="187" y="344"/>
                      </a:lnTo>
                      <a:lnTo>
                        <a:pt x="175" y="358"/>
                      </a:lnTo>
                      <a:lnTo>
                        <a:pt x="163" y="373"/>
                      </a:lnTo>
                      <a:lnTo>
                        <a:pt x="149" y="386"/>
                      </a:lnTo>
                      <a:lnTo>
                        <a:pt x="137" y="400"/>
                      </a:lnTo>
                      <a:lnTo>
                        <a:pt x="124" y="410"/>
                      </a:lnTo>
                      <a:lnTo>
                        <a:pt x="111" y="422"/>
                      </a:lnTo>
                      <a:lnTo>
                        <a:pt x="95" y="433"/>
                      </a:lnTo>
                      <a:lnTo>
                        <a:pt x="81" y="441"/>
                      </a:lnTo>
                      <a:lnTo>
                        <a:pt x="67" y="446"/>
                      </a:lnTo>
                      <a:lnTo>
                        <a:pt x="53" y="455"/>
                      </a:lnTo>
                      <a:lnTo>
                        <a:pt x="39" y="459"/>
                      </a:lnTo>
                      <a:lnTo>
                        <a:pt x="25" y="464"/>
                      </a:lnTo>
                      <a:lnTo>
                        <a:pt x="0" y="474"/>
                      </a:lnTo>
                    </a:path>
                  </a:pathLst>
                </a:custGeom>
                <a:gradFill rotWithShape="0">
                  <a:gsLst>
                    <a:gs pos="0">
                      <a:srgbClr val="2323b1"/>
                    </a:gs>
                    <a:gs pos="100000">
                      <a:srgbClr val="3333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3" name=""/>
            <p:cNvSpPr/>
            <p:nvPr/>
          </p:nvSpPr>
          <p:spPr>
            <a:xfrm>
              <a:off x="1569960" y="5056200"/>
              <a:ext cx="1447920" cy="228600"/>
            </a:xfrm>
            <a:prstGeom prst="line">
              <a:avLst/>
            </a:prstGeom>
            <a:ln w="12600">
              <a:solidFill>
                <a:srgbClr val="5e574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646280" y="5208480"/>
              <a:ext cx="762120" cy="457200"/>
            </a:xfrm>
            <a:prstGeom prst="line">
              <a:avLst/>
            </a:prstGeom>
            <a:ln w="12600">
              <a:solidFill>
                <a:srgbClr val="5e574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46280" y="5132520"/>
              <a:ext cx="685800" cy="152280"/>
            </a:xfrm>
            <a:prstGeom prst="line">
              <a:avLst/>
            </a:prstGeom>
            <a:ln w="12600">
              <a:solidFill>
                <a:srgbClr val="5e574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2181240" y="3290760"/>
              <a:ext cx="812880" cy="785880"/>
              <a:chOff x="2181240" y="3290760"/>
              <a:chExt cx="812880" cy="785880"/>
            </a:xfrm>
          </p:grpSpPr>
          <p:sp>
            <p:nvSpPr>
              <p:cNvPr id="197" name=""/>
              <p:cNvSpPr/>
              <p:nvPr/>
            </p:nvSpPr>
            <p:spPr>
              <a:xfrm>
                <a:off x="2414880" y="3808440"/>
                <a:ext cx="136440" cy="138240"/>
              </a:xfrm>
              <a:custGeom>
                <a:avLst/>
                <a:gdLst/>
                <a:ahLst/>
                <a:rect l="l" t="t" r="r" b="b"/>
                <a:pathLst>
                  <a:path w="86" h="87">
                    <a:moveTo>
                      <a:pt x="85" y="40"/>
                    </a:moveTo>
                    <a:lnTo>
                      <a:pt x="67" y="86"/>
                    </a:lnTo>
                    <a:lnTo>
                      <a:pt x="0" y="40"/>
                    </a:lnTo>
                    <a:lnTo>
                      <a:pt x="8" y="22"/>
                    </a:lnTo>
                    <a:lnTo>
                      <a:pt x="23" y="0"/>
                    </a:lnTo>
                    <a:lnTo>
                      <a:pt x="85" y="40"/>
                    </a:lnTo>
                  </a:path>
                </a:pathLst>
              </a:custGeom>
              <a:gradFill rotWithShape="0">
                <a:gsLst>
                  <a:gs pos="0">
                    <a:srgbClr val="2323b1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183040" y="3672000"/>
                <a:ext cx="136440" cy="135000"/>
              </a:xfrm>
              <a:custGeom>
                <a:avLst/>
                <a:gdLst/>
                <a:ahLst/>
                <a:rect l="l" t="t" r="r" b="b"/>
                <a:pathLst>
                  <a:path w="86" h="85">
                    <a:moveTo>
                      <a:pt x="16" y="0"/>
                    </a:moveTo>
                    <a:lnTo>
                      <a:pt x="0" y="41"/>
                    </a:lnTo>
                    <a:lnTo>
                      <a:pt x="65" y="84"/>
                    </a:lnTo>
                    <a:lnTo>
                      <a:pt x="85" y="32"/>
                    </a:lnTo>
                    <a:lnTo>
                      <a:pt x="16" y="0"/>
                    </a:lnTo>
                  </a:path>
                </a:pathLst>
              </a:custGeom>
              <a:gradFill rotWithShape="0">
                <a:gsLst>
                  <a:gs pos="0">
                    <a:srgbClr val="2323b1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2181240" y="3290760"/>
                <a:ext cx="812880" cy="785880"/>
                <a:chOff x="2181240" y="3290760"/>
                <a:chExt cx="812880" cy="78588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2211480" y="3290760"/>
                  <a:ext cx="782640" cy="706680"/>
                </a:xfrm>
                <a:custGeom>
                  <a:avLst/>
                  <a:gdLst/>
                  <a:ahLst/>
                  <a:rect l="l" t="t" r="r" b="b"/>
                  <a:pathLst>
                    <a:path w="493" h="445">
                      <a:moveTo>
                        <a:pt x="492" y="11"/>
                      </a:moveTo>
                      <a:lnTo>
                        <a:pt x="472" y="5"/>
                      </a:lnTo>
                      <a:lnTo>
                        <a:pt x="461" y="2"/>
                      </a:lnTo>
                      <a:lnTo>
                        <a:pt x="450" y="0"/>
                      </a:lnTo>
                      <a:lnTo>
                        <a:pt x="437" y="1"/>
                      </a:lnTo>
                      <a:lnTo>
                        <a:pt x="424" y="1"/>
                      </a:lnTo>
                      <a:lnTo>
                        <a:pt x="411" y="3"/>
                      </a:lnTo>
                      <a:lnTo>
                        <a:pt x="398" y="7"/>
                      </a:lnTo>
                      <a:lnTo>
                        <a:pt x="386" y="10"/>
                      </a:lnTo>
                      <a:lnTo>
                        <a:pt x="368" y="16"/>
                      </a:lnTo>
                      <a:lnTo>
                        <a:pt x="351" y="25"/>
                      </a:lnTo>
                      <a:lnTo>
                        <a:pt x="337" y="32"/>
                      </a:lnTo>
                      <a:lnTo>
                        <a:pt x="318" y="43"/>
                      </a:lnTo>
                      <a:lnTo>
                        <a:pt x="300" y="54"/>
                      </a:lnTo>
                      <a:lnTo>
                        <a:pt x="280" y="67"/>
                      </a:lnTo>
                      <a:lnTo>
                        <a:pt x="267" y="79"/>
                      </a:lnTo>
                      <a:lnTo>
                        <a:pt x="247" y="92"/>
                      </a:lnTo>
                      <a:lnTo>
                        <a:pt x="233" y="103"/>
                      </a:lnTo>
                      <a:lnTo>
                        <a:pt x="215" y="118"/>
                      </a:lnTo>
                      <a:lnTo>
                        <a:pt x="199" y="131"/>
                      </a:lnTo>
                      <a:lnTo>
                        <a:pt x="179" y="149"/>
                      </a:lnTo>
                      <a:lnTo>
                        <a:pt x="164" y="163"/>
                      </a:lnTo>
                      <a:lnTo>
                        <a:pt x="144" y="184"/>
                      </a:lnTo>
                      <a:lnTo>
                        <a:pt x="127" y="202"/>
                      </a:lnTo>
                      <a:lnTo>
                        <a:pt x="111" y="218"/>
                      </a:lnTo>
                      <a:lnTo>
                        <a:pt x="96" y="237"/>
                      </a:lnTo>
                      <a:lnTo>
                        <a:pt x="82" y="254"/>
                      </a:lnTo>
                      <a:lnTo>
                        <a:pt x="70" y="274"/>
                      </a:lnTo>
                      <a:lnTo>
                        <a:pt x="0" y="237"/>
                      </a:lnTo>
                      <a:lnTo>
                        <a:pt x="5" y="252"/>
                      </a:lnTo>
                      <a:lnTo>
                        <a:pt x="10" y="265"/>
                      </a:lnTo>
                      <a:lnTo>
                        <a:pt x="19" y="279"/>
                      </a:lnTo>
                      <a:lnTo>
                        <a:pt x="22" y="294"/>
                      </a:lnTo>
                      <a:lnTo>
                        <a:pt x="26" y="305"/>
                      </a:lnTo>
                      <a:lnTo>
                        <a:pt x="29" y="314"/>
                      </a:lnTo>
                      <a:lnTo>
                        <a:pt x="29" y="330"/>
                      </a:lnTo>
                      <a:lnTo>
                        <a:pt x="32" y="341"/>
                      </a:lnTo>
                      <a:lnTo>
                        <a:pt x="36" y="356"/>
                      </a:lnTo>
                      <a:lnTo>
                        <a:pt x="35" y="373"/>
                      </a:lnTo>
                      <a:lnTo>
                        <a:pt x="38" y="392"/>
                      </a:lnTo>
                      <a:lnTo>
                        <a:pt x="39" y="410"/>
                      </a:lnTo>
                      <a:lnTo>
                        <a:pt x="38" y="429"/>
                      </a:lnTo>
                      <a:lnTo>
                        <a:pt x="38" y="444"/>
                      </a:lnTo>
                      <a:lnTo>
                        <a:pt x="47" y="440"/>
                      </a:lnTo>
                      <a:lnTo>
                        <a:pt x="57" y="430"/>
                      </a:lnTo>
                      <a:lnTo>
                        <a:pt x="66" y="426"/>
                      </a:lnTo>
                      <a:lnTo>
                        <a:pt x="76" y="420"/>
                      </a:lnTo>
                      <a:lnTo>
                        <a:pt x="88" y="411"/>
                      </a:lnTo>
                      <a:lnTo>
                        <a:pt x="99" y="405"/>
                      </a:lnTo>
                      <a:lnTo>
                        <a:pt x="108" y="402"/>
                      </a:lnTo>
                      <a:lnTo>
                        <a:pt x="119" y="396"/>
                      </a:lnTo>
                      <a:lnTo>
                        <a:pt x="130" y="391"/>
                      </a:lnTo>
                      <a:lnTo>
                        <a:pt x="140" y="389"/>
                      </a:lnTo>
                      <a:lnTo>
                        <a:pt x="151" y="384"/>
                      </a:lnTo>
                      <a:lnTo>
                        <a:pt x="161" y="379"/>
                      </a:lnTo>
                      <a:lnTo>
                        <a:pt x="171" y="378"/>
                      </a:lnTo>
                      <a:lnTo>
                        <a:pt x="181" y="375"/>
                      </a:lnTo>
                      <a:lnTo>
                        <a:pt x="191" y="369"/>
                      </a:lnTo>
                      <a:lnTo>
                        <a:pt x="201" y="367"/>
                      </a:lnTo>
                      <a:lnTo>
                        <a:pt x="214" y="365"/>
                      </a:lnTo>
                      <a:lnTo>
                        <a:pt x="144" y="319"/>
                      </a:lnTo>
                      <a:lnTo>
                        <a:pt x="162" y="291"/>
                      </a:lnTo>
                      <a:lnTo>
                        <a:pt x="176" y="271"/>
                      </a:lnTo>
                      <a:lnTo>
                        <a:pt x="203" y="234"/>
                      </a:lnTo>
                      <a:lnTo>
                        <a:pt x="216" y="218"/>
                      </a:lnTo>
                      <a:lnTo>
                        <a:pt x="231" y="202"/>
                      </a:lnTo>
                      <a:lnTo>
                        <a:pt x="249" y="182"/>
                      </a:lnTo>
                      <a:lnTo>
                        <a:pt x="269" y="158"/>
                      </a:lnTo>
                      <a:lnTo>
                        <a:pt x="286" y="143"/>
                      </a:lnTo>
                      <a:lnTo>
                        <a:pt x="310" y="121"/>
                      </a:lnTo>
                      <a:lnTo>
                        <a:pt x="328" y="107"/>
                      </a:lnTo>
                      <a:lnTo>
                        <a:pt x="344" y="94"/>
                      </a:lnTo>
                      <a:lnTo>
                        <a:pt x="359" y="82"/>
                      </a:lnTo>
                      <a:lnTo>
                        <a:pt x="368" y="77"/>
                      </a:lnTo>
                      <a:lnTo>
                        <a:pt x="386" y="70"/>
                      </a:lnTo>
                      <a:lnTo>
                        <a:pt x="401" y="63"/>
                      </a:lnTo>
                      <a:lnTo>
                        <a:pt x="416" y="54"/>
                      </a:lnTo>
                      <a:lnTo>
                        <a:pt x="437" y="49"/>
                      </a:lnTo>
                      <a:lnTo>
                        <a:pt x="451" y="46"/>
                      </a:lnTo>
                      <a:lnTo>
                        <a:pt x="477" y="47"/>
                      </a:lnTo>
                      <a:lnTo>
                        <a:pt x="492" y="11"/>
                      </a:lnTo>
                    </a:path>
                  </a:pathLst>
                </a:custGeom>
                <a:gradFill rotWithShape="0">
                  <a:gsLst>
                    <a:gs pos="0">
                      <a:srgbClr val="2323b1"/>
                    </a:gs>
                    <a:gs pos="100000">
                      <a:srgbClr val="3333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2181240" y="3346560"/>
                  <a:ext cx="790560" cy="730080"/>
                </a:xfrm>
                <a:custGeom>
                  <a:avLst/>
                  <a:gdLst/>
                  <a:ahLst/>
                  <a:rect l="l" t="t" r="r" b="b"/>
                  <a:pathLst>
                    <a:path w="498" h="460">
                      <a:moveTo>
                        <a:pt x="497" y="9"/>
                      </a:moveTo>
                      <a:lnTo>
                        <a:pt x="476" y="6"/>
                      </a:lnTo>
                      <a:lnTo>
                        <a:pt x="467" y="2"/>
                      </a:lnTo>
                      <a:lnTo>
                        <a:pt x="454" y="0"/>
                      </a:lnTo>
                      <a:lnTo>
                        <a:pt x="442" y="0"/>
                      </a:lnTo>
                      <a:lnTo>
                        <a:pt x="429" y="1"/>
                      </a:lnTo>
                      <a:lnTo>
                        <a:pt x="415" y="3"/>
                      </a:lnTo>
                      <a:lnTo>
                        <a:pt x="403" y="6"/>
                      </a:lnTo>
                      <a:lnTo>
                        <a:pt x="389" y="11"/>
                      </a:lnTo>
                      <a:lnTo>
                        <a:pt x="372" y="16"/>
                      </a:lnTo>
                      <a:lnTo>
                        <a:pt x="355" y="26"/>
                      </a:lnTo>
                      <a:lnTo>
                        <a:pt x="338" y="33"/>
                      </a:lnTo>
                      <a:lnTo>
                        <a:pt x="319" y="46"/>
                      </a:lnTo>
                      <a:lnTo>
                        <a:pt x="304" y="56"/>
                      </a:lnTo>
                      <a:lnTo>
                        <a:pt x="285" y="68"/>
                      </a:lnTo>
                      <a:lnTo>
                        <a:pt x="267" y="82"/>
                      </a:lnTo>
                      <a:lnTo>
                        <a:pt x="250" y="95"/>
                      </a:lnTo>
                      <a:lnTo>
                        <a:pt x="237" y="106"/>
                      </a:lnTo>
                      <a:lnTo>
                        <a:pt x="218" y="122"/>
                      </a:lnTo>
                      <a:lnTo>
                        <a:pt x="199" y="136"/>
                      </a:lnTo>
                      <a:lnTo>
                        <a:pt x="182" y="155"/>
                      </a:lnTo>
                      <a:lnTo>
                        <a:pt x="165" y="168"/>
                      </a:lnTo>
                      <a:lnTo>
                        <a:pt x="147" y="189"/>
                      </a:lnTo>
                      <a:lnTo>
                        <a:pt x="128" y="208"/>
                      </a:lnTo>
                      <a:lnTo>
                        <a:pt x="112" y="226"/>
                      </a:lnTo>
                      <a:lnTo>
                        <a:pt x="95" y="245"/>
                      </a:lnTo>
                      <a:lnTo>
                        <a:pt x="81" y="263"/>
                      </a:lnTo>
                      <a:lnTo>
                        <a:pt x="69" y="283"/>
                      </a:lnTo>
                      <a:lnTo>
                        <a:pt x="0" y="243"/>
                      </a:lnTo>
                      <a:lnTo>
                        <a:pt x="6" y="261"/>
                      </a:lnTo>
                      <a:lnTo>
                        <a:pt x="12" y="274"/>
                      </a:lnTo>
                      <a:lnTo>
                        <a:pt x="18" y="288"/>
                      </a:lnTo>
                      <a:lnTo>
                        <a:pt x="22" y="302"/>
                      </a:lnTo>
                      <a:lnTo>
                        <a:pt x="25" y="315"/>
                      </a:lnTo>
                      <a:lnTo>
                        <a:pt x="28" y="328"/>
                      </a:lnTo>
                      <a:lnTo>
                        <a:pt x="30" y="340"/>
                      </a:lnTo>
                      <a:lnTo>
                        <a:pt x="31" y="351"/>
                      </a:lnTo>
                      <a:lnTo>
                        <a:pt x="35" y="367"/>
                      </a:lnTo>
                      <a:lnTo>
                        <a:pt x="35" y="386"/>
                      </a:lnTo>
                      <a:lnTo>
                        <a:pt x="37" y="403"/>
                      </a:lnTo>
                      <a:lnTo>
                        <a:pt x="37" y="422"/>
                      </a:lnTo>
                      <a:lnTo>
                        <a:pt x="37" y="440"/>
                      </a:lnTo>
                      <a:lnTo>
                        <a:pt x="36" y="459"/>
                      </a:lnTo>
                      <a:lnTo>
                        <a:pt x="45" y="454"/>
                      </a:lnTo>
                      <a:lnTo>
                        <a:pt x="56" y="446"/>
                      </a:lnTo>
                      <a:lnTo>
                        <a:pt x="66" y="438"/>
                      </a:lnTo>
                      <a:lnTo>
                        <a:pt x="76" y="431"/>
                      </a:lnTo>
                      <a:lnTo>
                        <a:pt x="88" y="426"/>
                      </a:lnTo>
                      <a:lnTo>
                        <a:pt x="97" y="418"/>
                      </a:lnTo>
                      <a:lnTo>
                        <a:pt x="107" y="414"/>
                      </a:lnTo>
                      <a:lnTo>
                        <a:pt x="117" y="410"/>
                      </a:lnTo>
                      <a:lnTo>
                        <a:pt x="128" y="405"/>
                      </a:lnTo>
                      <a:lnTo>
                        <a:pt x="139" y="400"/>
                      </a:lnTo>
                      <a:lnTo>
                        <a:pt x="150" y="396"/>
                      </a:lnTo>
                      <a:lnTo>
                        <a:pt x="160" y="393"/>
                      </a:lnTo>
                      <a:lnTo>
                        <a:pt x="170" y="389"/>
                      </a:lnTo>
                      <a:lnTo>
                        <a:pt x="180" y="386"/>
                      </a:lnTo>
                      <a:lnTo>
                        <a:pt x="189" y="385"/>
                      </a:lnTo>
                      <a:lnTo>
                        <a:pt x="201" y="379"/>
                      </a:lnTo>
                      <a:lnTo>
                        <a:pt x="214" y="378"/>
                      </a:lnTo>
                      <a:lnTo>
                        <a:pt x="145" y="329"/>
                      </a:lnTo>
                      <a:lnTo>
                        <a:pt x="162" y="300"/>
                      </a:lnTo>
                      <a:lnTo>
                        <a:pt x="177" y="278"/>
                      </a:lnTo>
                      <a:lnTo>
                        <a:pt x="204" y="242"/>
                      </a:lnTo>
                      <a:lnTo>
                        <a:pt x="218" y="225"/>
                      </a:lnTo>
                      <a:lnTo>
                        <a:pt x="232" y="209"/>
                      </a:lnTo>
                      <a:lnTo>
                        <a:pt x="257" y="180"/>
                      </a:lnTo>
                      <a:lnTo>
                        <a:pt x="272" y="162"/>
                      </a:lnTo>
                      <a:lnTo>
                        <a:pt x="289" y="143"/>
                      </a:lnTo>
                      <a:lnTo>
                        <a:pt x="304" y="129"/>
                      </a:lnTo>
                      <a:lnTo>
                        <a:pt x="316" y="116"/>
                      </a:lnTo>
                      <a:lnTo>
                        <a:pt x="329" y="101"/>
                      </a:lnTo>
                      <a:lnTo>
                        <a:pt x="343" y="89"/>
                      </a:lnTo>
                      <a:lnTo>
                        <a:pt x="356" y="76"/>
                      </a:lnTo>
                      <a:lnTo>
                        <a:pt x="370" y="66"/>
                      </a:lnTo>
                      <a:lnTo>
                        <a:pt x="384" y="55"/>
                      </a:lnTo>
                      <a:lnTo>
                        <a:pt x="400" y="45"/>
                      </a:lnTo>
                      <a:lnTo>
                        <a:pt x="414" y="38"/>
                      </a:lnTo>
                      <a:lnTo>
                        <a:pt x="429" y="33"/>
                      </a:lnTo>
                      <a:lnTo>
                        <a:pt x="443" y="25"/>
                      </a:lnTo>
                      <a:lnTo>
                        <a:pt x="457" y="22"/>
                      </a:lnTo>
                      <a:lnTo>
                        <a:pt x="472" y="18"/>
                      </a:lnTo>
                      <a:lnTo>
                        <a:pt x="497" y="9"/>
                      </a:lnTo>
                    </a:path>
                  </a:pathLst>
                </a:custGeom>
                <a:gradFill rotWithShape="0">
                  <a:gsLst>
                    <a:gs pos="0">
                      <a:srgbClr val="2323b1"/>
                    </a:gs>
                    <a:gs pos="100000">
                      <a:srgbClr val="3333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2" name=""/>
            <p:cNvGrpSpPr/>
            <p:nvPr/>
          </p:nvGrpSpPr>
          <p:grpSpPr>
            <a:xfrm>
              <a:off x="5133960" y="2370240"/>
              <a:ext cx="1068480" cy="426960"/>
              <a:chOff x="5133960" y="2370240"/>
              <a:chExt cx="1068480" cy="426960"/>
            </a:xfrm>
          </p:grpSpPr>
          <p:sp>
            <p:nvSpPr>
              <p:cNvPr id="203" name=""/>
              <p:cNvSpPr/>
              <p:nvPr/>
            </p:nvSpPr>
            <p:spPr>
              <a:xfrm>
                <a:off x="5402520" y="2647800"/>
                <a:ext cx="82440" cy="140040"/>
              </a:xfrm>
              <a:custGeom>
                <a:avLst/>
                <a:gdLst/>
                <a:ahLst/>
                <a:rect l="l" t="t" r="r" b="b"/>
                <a:pathLst>
                  <a:path w="52" h="88">
                    <a:moveTo>
                      <a:pt x="51" y="74"/>
                    </a:moveTo>
                    <a:lnTo>
                      <a:pt x="5" y="87"/>
                    </a:lnTo>
                    <a:lnTo>
                      <a:pt x="0" y="5"/>
                    </a:lnTo>
                    <a:lnTo>
                      <a:pt x="20" y="1"/>
                    </a:lnTo>
                    <a:lnTo>
                      <a:pt x="46" y="0"/>
                    </a:lnTo>
                    <a:lnTo>
                      <a:pt x="51" y="74"/>
                    </a:lnTo>
                  </a:path>
                </a:pathLst>
              </a:custGeom>
              <a:gradFill rotWithShape="0">
                <a:gsLst>
                  <a:gs pos="0">
                    <a:srgbClr val="2323b1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372280" y="2371680"/>
                <a:ext cx="92160" cy="144360"/>
              </a:xfrm>
              <a:custGeom>
                <a:avLst/>
                <a:gdLst/>
                <a:ahLst/>
                <a:rect l="l" t="t" r="r" b="b"/>
                <a:pathLst>
                  <a:path w="58" h="91">
                    <a:moveTo>
                      <a:pt x="41" y="0"/>
                    </a:moveTo>
                    <a:lnTo>
                      <a:pt x="0" y="12"/>
                    </a:lnTo>
                    <a:lnTo>
                      <a:pt x="5" y="90"/>
                    </a:lnTo>
                    <a:lnTo>
                      <a:pt x="57" y="74"/>
                    </a:lnTo>
                    <a:lnTo>
                      <a:pt x="41" y="0"/>
                    </a:lnTo>
                  </a:path>
                </a:pathLst>
              </a:custGeom>
              <a:gradFill rotWithShape="0">
                <a:gsLst>
                  <a:gs pos="0">
                    <a:srgbClr val="2323b1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5133960" y="2370240"/>
                <a:ext cx="1068480" cy="426960"/>
                <a:chOff x="5133960" y="2370240"/>
                <a:chExt cx="1068480" cy="4269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5216760" y="2370240"/>
                  <a:ext cx="985680" cy="426960"/>
                </a:xfrm>
                <a:custGeom>
                  <a:avLst/>
                  <a:gdLst/>
                  <a:ahLst/>
                  <a:rect l="l" t="t" r="r" b="b"/>
                  <a:pathLst>
                    <a:path w="621" h="269">
                      <a:moveTo>
                        <a:pt x="620" y="258"/>
                      </a:moveTo>
                      <a:lnTo>
                        <a:pt x="613" y="238"/>
                      </a:lnTo>
                      <a:lnTo>
                        <a:pt x="609" y="227"/>
                      </a:lnTo>
                      <a:lnTo>
                        <a:pt x="604" y="218"/>
                      </a:lnTo>
                      <a:lnTo>
                        <a:pt x="596" y="208"/>
                      </a:lnTo>
                      <a:lnTo>
                        <a:pt x="587" y="198"/>
                      </a:lnTo>
                      <a:lnTo>
                        <a:pt x="577" y="189"/>
                      </a:lnTo>
                      <a:lnTo>
                        <a:pt x="566" y="180"/>
                      </a:lnTo>
                      <a:lnTo>
                        <a:pt x="558" y="172"/>
                      </a:lnTo>
                      <a:lnTo>
                        <a:pt x="542" y="162"/>
                      </a:lnTo>
                      <a:lnTo>
                        <a:pt x="526" y="154"/>
                      </a:lnTo>
                      <a:lnTo>
                        <a:pt x="509" y="147"/>
                      </a:lnTo>
                      <a:lnTo>
                        <a:pt x="489" y="137"/>
                      </a:lnTo>
                      <a:lnTo>
                        <a:pt x="471" y="131"/>
                      </a:lnTo>
                      <a:lnTo>
                        <a:pt x="448" y="122"/>
                      </a:lnTo>
                      <a:lnTo>
                        <a:pt x="431" y="118"/>
                      </a:lnTo>
                      <a:lnTo>
                        <a:pt x="407" y="111"/>
                      </a:lnTo>
                      <a:lnTo>
                        <a:pt x="391" y="107"/>
                      </a:lnTo>
                      <a:lnTo>
                        <a:pt x="367" y="100"/>
                      </a:lnTo>
                      <a:lnTo>
                        <a:pt x="348" y="96"/>
                      </a:lnTo>
                      <a:lnTo>
                        <a:pt x="322" y="92"/>
                      </a:lnTo>
                      <a:lnTo>
                        <a:pt x="301" y="87"/>
                      </a:lnTo>
                      <a:lnTo>
                        <a:pt x="273" y="83"/>
                      </a:lnTo>
                      <a:lnTo>
                        <a:pt x="247" y="81"/>
                      </a:lnTo>
                      <a:lnTo>
                        <a:pt x="226" y="79"/>
                      </a:lnTo>
                      <a:lnTo>
                        <a:pt x="201" y="77"/>
                      </a:lnTo>
                      <a:lnTo>
                        <a:pt x="179" y="78"/>
                      </a:lnTo>
                      <a:lnTo>
                        <a:pt x="156" y="78"/>
                      </a:lnTo>
                      <a:lnTo>
                        <a:pt x="143" y="0"/>
                      </a:lnTo>
                      <a:lnTo>
                        <a:pt x="136" y="14"/>
                      </a:lnTo>
                      <a:lnTo>
                        <a:pt x="128" y="25"/>
                      </a:lnTo>
                      <a:lnTo>
                        <a:pt x="121" y="42"/>
                      </a:lnTo>
                      <a:lnTo>
                        <a:pt x="111" y="54"/>
                      </a:lnTo>
                      <a:lnTo>
                        <a:pt x="104" y="63"/>
                      </a:lnTo>
                      <a:lnTo>
                        <a:pt x="100" y="70"/>
                      </a:lnTo>
                      <a:lnTo>
                        <a:pt x="87" y="80"/>
                      </a:lnTo>
                      <a:lnTo>
                        <a:pt x="80" y="89"/>
                      </a:lnTo>
                      <a:lnTo>
                        <a:pt x="71" y="101"/>
                      </a:lnTo>
                      <a:lnTo>
                        <a:pt x="56" y="111"/>
                      </a:lnTo>
                      <a:lnTo>
                        <a:pt x="42" y="124"/>
                      </a:lnTo>
                      <a:lnTo>
                        <a:pt x="30" y="135"/>
                      </a:lnTo>
                      <a:lnTo>
                        <a:pt x="14" y="149"/>
                      </a:lnTo>
                      <a:lnTo>
                        <a:pt x="0" y="155"/>
                      </a:lnTo>
                      <a:lnTo>
                        <a:pt x="9" y="161"/>
                      </a:lnTo>
                      <a:lnTo>
                        <a:pt x="23" y="163"/>
                      </a:lnTo>
                      <a:lnTo>
                        <a:pt x="32" y="167"/>
                      </a:lnTo>
                      <a:lnTo>
                        <a:pt x="43" y="172"/>
                      </a:lnTo>
                      <a:lnTo>
                        <a:pt x="57" y="177"/>
                      </a:lnTo>
                      <a:lnTo>
                        <a:pt x="67" y="182"/>
                      </a:lnTo>
                      <a:lnTo>
                        <a:pt x="78" y="187"/>
                      </a:lnTo>
                      <a:lnTo>
                        <a:pt x="88" y="190"/>
                      </a:lnTo>
                      <a:lnTo>
                        <a:pt x="99" y="198"/>
                      </a:lnTo>
                      <a:lnTo>
                        <a:pt x="106" y="204"/>
                      </a:lnTo>
                      <a:lnTo>
                        <a:pt x="118" y="210"/>
                      </a:lnTo>
                      <a:lnTo>
                        <a:pt x="127" y="215"/>
                      </a:lnTo>
                      <a:lnTo>
                        <a:pt x="132" y="222"/>
                      </a:lnTo>
                      <a:lnTo>
                        <a:pt x="143" y="228"/>
                      </a:lnTo>
                      <a:lnTo>
                        <a:pt x="153" y="233"/>
                      </a:lnTo>
                      <a:lnTo>
                        <a:pt x="160" y="240"/>
                      </a:lnTo>
                      <a:lnTo>
                        <a:pt x="170" y="249"/>
                      </a:lnTo>
                      <a:lnTo>
                        <a:pt x="166" y="166"/>
                      </a:lnTo>
                      <a:lnTo>
                        <a:pt x="198" y="164"/>
                      </a:lnTo>
                      <a:lnTo>
                        <a:pt x="222" y="162"/>
                      </a:lnTo>
                      <a:lnTo>
                        <a:pt x="267" y="162"/>
                      </a:lnTo>
                      <a:lnTo>
                        <a:pt x="288" y="161"/>
                      </a:lnTo>
                      <a:lnTo>
                        <a:pt x="311" y="164"/>
                      </a:lnTo>
                      <a:lnTo>
                        <a:pt x="338" y="166"/>
                      </a:lnTo>
                      <a:lnTo>
                        <a:pt x="369" y="168"/>
                      </a:lnTo>
                      <a:lnTo>
                        <a:pt x="391" y="172"/>
                      </a:lnTo>
                      <a:lnTo>
                        <a:pt x="423" y="180"/>
                      </a:lnTo>
                      <a:lnTo>
                        <a:pt x="445" y="185"/>
                      </a:lnTo>
                      <a:lnTo>
                        <a:pt x="466" y="190"/>
                      </a:lnTo>
                      <a:lnTo>
                        <a:pt x="484" y="195"/>
                      </a:lnTo>
                      <a:lnTo>
                        <a:pt x="493" y="199"/>
                      </a:lnTo>
                      <a:lnTo>
                        <a:pt x="509" y="208"/>
                      </a:lnTo>
                      <a:lnTo>
                        <a:pt x="524" y="217"/>
                      </a:lnTo>
                      <a:lnTo>
                        <a:pt x="540" y="223"/>
                      </a:lnTo>
                      <a:lnTo>
                        <a:pt x="556" y="237"/>
                      </a:lnTo>
                      <a:lnTo>
                        <a:pt x="567" y="247"/>
                      </a:lnTo>
                      <a:lnTo>
                        <a:pt x="583" y="268"/>
                      </a:lnTo>
                      <a:lnTo>
                        <a:pt x="620" y="258"/>
                      </a:lnTo>
                    </a:path>
                  </a:pathLst>
                </a:custGeom>
                <a:gradFill rotWithShape="0">
                  <a:gsLst>
                    <a:gs pos="0">
                      <a:srgbClr val="2323b1"/>
                    </a:gs>
                    <a:gs pos="100000">
                      <a:srgbClr val="3333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133960" y="2387520"/>
                  <a:ext cx="1016280" cy="408240"/>
                </a:xfrm>
                <a:custGeom>
                  <a:avLst/>
                  <a:gdLst/>
                  <a:ahLst/>
                  <a:rect l="l" t="t" r="r" b="b"/>
                  <a:pathLst>
                    <a:path w="640" h="257">
                      <a:moveTo>
                        <a:pt x="639" y="256"/>
                      </a:moveTo>
                      <a:lnTo>
                        <a:pt x="626" y="237"/>
                      </a:lnTo>
                      <a:lnTo>
                        <a:pt x="625" y="228"/>
                      </a:lnTo>
                      <a:lnTo>
                        <a:pt x="619" y="215"/>
                      </a:lnTo>
                      <a:lnTo>
                        <a:pt x="611" y="207"/>
                      </a:lnTo>
                      <a:lnTo>
                        <a:pt x="604" y="196"/>
                      </a:lnTo>
                      <a:lnTo>
                        <a:pt x="593" y="187"/>
                      </a:lnTo>
                      <a:lnTo>
                        <a:pt x="583" y="179"/>
                      </a:lnTo>
                      <a:lnTo>
                        <a:pt x="571" y="170"/>
                      </a:lnTo>
                      <a:lnTo>
                        <a:pt x="556" y="159"/>
                      </a:lnTo>
                      <a:lnTo>
                        <a:pt x="538" y="153"/>
                      </a:lnTo>
                      <a:lnTo>
                        <a:pt x="521" y="144"/>
                      </a:lnTo>
                      <a:lnTo>
                        <a:pt x="501" y="136"/>
                      </a:lnTo>
                      <a:lnTo>
                        <a:pt x="483" y="128"/>
                      </a:lnTo>
                      <a:lnTo>
                        <a:pt x="463" y="122"/>
                      </a:lnTo>
                      <a:lnTo>
                        <a:pt x="440" y="116"/>
                      </a:lnTo>
                      <a:lnTo>
                        <a:pt x="421" y="110"/>
                      </a:lnTo>
                      <a:lnTo>
                        <a:pt x="405" y="106"/>
                      </a:lnTo>
                      <a:lnTo>
                        <a:pt x="380" y="101"/>
                      </a:lnTo>
                      <a:lnTo>
                        <a:pt x="357" y="93"/>
                      </a:lnTo>
                      <a:lnTo>
                        <a:pt x="331" y="91"/>
                      </a:lnTo>
                      <a:lnTo>
                        <a:pt x="311" y="86"/>
                      </a:lnTo>
                      <a:lnTo>
                        <a:pt x="284" y="84"/>
                      </a:lnTo>
                      <a:lnTo>
                        <a:pt x="255" y="81"/>
                      </a:lnTo>
                      <a:lnTo>
                        <a:pt x="232" y="80"/>
                      </a:lnTo>
                      <a:lnTo>
                        <a:pt x="208" y="75"/>
                      </a:lnTo>
                      <a:lnTo>
                        <a:pt x="185" y="75"/>
                      </a:lnTo>
                      <a:lnTo>
                        <a:pt x="162" y="79"/>
                      </a:lnTo>
                      <a:lnTo>
                        <a:pt x="153" y="0"/>
                      </a:lnTo>
                      <a:lnTo>
                        <a:pt x="141" y="15"/>
                      </a:lnTo>
                      <a:lnTo>
                        <a:pt x="134" y="27"/>
                      </a:lnTo>
                      <a:lnTo>
                        <a:pt x="126" y="41"/>
                      </a:lnTo>
                      <a:lnTo>
                        <a:pt x="117" y="53"/>
                      </a:lnTo>
                      <a:lnTo>
                        <a:pt x="110" y="63"/>
                      </a:lnTo>
                      <a:lnTo>
                        <a:pt x="102" y="73"/>
                      </a:lnTo>
                      <a:lnTo>
                        <a:pt x="93" y="81"/>
                      </a:lnTo>
                      <a:lnTo>
                        <a:pt x="83" y="89"/>
                      </a:lnTo>
                      <a:lnTo>
                        <a:pt x="72" y="101"/>
                      </a:lnTo>
                      <a:lnTo>
                        <a:pt x="57" y="114"/>
                      </a:lnTo>
                      <a:lnTo>
                        <a:pt x="45" y="125"/>
                      </a:lnTo>
                      <a:lnTo>
                        <a:pt x="31" y="137"/>
                      </a:lnTo>
                      <a:lnTo>
                        <a:pt x="16" y="147"/>
                      </a:lnTo>
                      <a:lnTo>
                        <a:pt x="0" y="159"/>
                      </a:lnTo>
                      <a:lnTo>
                        <a:pt x="11" y="163"/>
                      </a:lnTo>
                      <a:lnTo>
                        <a:pt x="23" y="166"/>
                      </a:lnTo>
                      <a:lnTo>
                        <a:pt x="35" y="169"/>
                      </a:lnTo>
                      <a:lnTo>
                        <a:pt x="46" y="174"/>
                      </a:lnTo>
                      <a:lnTo>
                        <a:pt x="58" y="179"/>
                      </a:lnTo>
                      <a:lnTo>
                        <a:pt x="70" y="183"/>
                      </a:lnTo>
                      <a:lnTo>
                        <a:pt x="79" y="188"/>
                      </a:lnTo>
                      <a:lnTo>
                        <a:pt x="89" y="192"/>
                      </a:lnTo>
                      <a:lnTo>
                        <a:pt x="99" y="199"/>
                      </a:lnTo>
                      <a:lnTo>
                        <a:pt x="111" y="205"/>
                      </a:lnTo>
                      <a:lnTo>
                        <a:pt x="119" y="211"/>
                      </a:lnTo>
                      <a:lnTo>
                        <a:pt x="128" y="217"/>
                      </a:lnTo>
                      <a:lnTo>
                        <a:pt x="137" y="223"/>
                      </a:lnTo>
                      <a:lnTo>
                        <a:pt x="146" y="229"/>
                      </a:lnTo>
                      <a:lnTo>
                        <a:pt x="152" y="235"/>
                      </a:lnTo>
                      <a:lnTo>
                        <a:pt x="164" y="242"/>
                      </a:lnTo>
                      <a:lnTo>
                        <a:pt x="173" y="251"/>
                      </a:lnTo>
                      <a:lnTo>
                        <a:pt x="170" y="166"/>
                      </a:lnTo>
                      <a:lnTo>
                        <a:pt x="203" y="163"/>
                      </a:lnTo>
                      <a:lnTo>
                        <a:pt x="229" y="161"/>
                      </a:lnTo>
                      <a:lnTo>
                        <a:pt x="275" y="162"/>
                      </a:lnTo>
                      <a:lnTo>
                        <a:pt x="297" y="163"/>
                      </a:lnTo>
                      <a:lnTo>
                        <a:pt x="318" y="164"/>
                      </a:lnTo>
                      <a:lnTo>
                        <a:pt x="357" y="167"/>
                      </a:lnTo>
                      <a:lnTo>
                        <a:pt x="380" y="168"/>
                      </a:lnTo>
                      <a:lnTo>
                        <a:pt x="405" y="170"/>
                      </a:lnTo>
                      <a:lnTo>
                        <a:pt x="426" y="173"/>
                      </a:lnTo>
                      <a:lnTo>
                        <a:pt x="442" y="174"/>
                      </a:lnTo>
                      <a:lnTo>
                        <a:pt x="463" y="176"/>
                      </a:lnTo>
                      <a:lnTo>
                        <a:pt x="481" y="181"/>
                      </a:lnTo>
                      <a:lnTo>
                        <a:pt x="499" y="183"/>
                      </a:lnTo>
                      <a:lnTo>
                        <a:pt x="516" y="189"/>
                      </a:lnTo>
                      <a:lnTo>
                        <a:pt x="531" y="193"/>
                      </a:lnTo>
                      <a:lnTo>
                        <a:pt x="549" y="199"/>
                      </a:lnTo>
                      <a:lnTo>
                        <a:pt x="565" y="207"/>
                      </a:lnTo>
                      <a:lnTo>
                        <a:pt x="577" y="216"/>
                      </a:lnTo>
                      <a:lnTo>
                        <a:pt x="592" y="222"/>
                      </a:lnTo>
                      <a:lnTo>
                        <a:pt x="602" y="230"/>
                      </a:lnTo>
                      <a:lnTo>
                        <a:pt x="614" y="241"/>
                      </a:lnTo>
                      <a:lnTo>
                        <a:pt x="639" y="256"/>
                      </a:lnTo>
                    </a:path>
                  </a:pathLst>
                </a:custGeom>
                <a:gradFill rotWithShape="0">
                  <a:gsLst>
                    <a:gs pos="0">
                      <a:srgbClr val="2323b1"/>
                    </a:gs>
                    <a:gs pos="100000">
                      <a:srgbClr val="3333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5164200" y="2741760"/>
              <a:ext cx="1066320" cy="425160"/>
              <a:chOff x="5164200" y="2741760"/>
              <a:chExt cx="1066320" cy="425160"/>
            </a:xfrm>
          </p:grpSpPr>
          <p:sp>
            <p:nvSpPr>
              <p:cNvPr id="209" name=""/>
              <p:cNvSpPr/>
              <p:nvPr/>
            </p:nvSpPr>
            <p:spPr>
              <a:xfrm>
                <a:off x="5881320" y="2751120"/>
                <a:ext cx="82440" cy="139680"/>
              </a:xfrm>
              <a:custGeom>
                <a:avLst/>
                <a:gdLst/>
                <a:ahLst/>
                <a:rect l="l" t="t" r="r" b="b"/>
                <a:pathLst>
                  <a:path w="52" h="88">
                    <a:moveTo>
                      <a:pt x="0" y="14"/>
                    </a:moveTo>
                    <a:lnTo>
                      <a:pt x="47" y="0"/>
                    </a:lnTo>
                    <a:lnTo>
                      <a:pt x="51" y="81"/>
                    </a:lnTo>
                    <a:lnTo>
                      <a:pt x="30" y="86"/>
                    </a:lnTo>
                    <a:lnTo>
                      <a:pt x="4" y="87"/>
                    </a:lnTo>
                    <a:lnTo>
                      <a:pt x="0" y="14"/>
                    </a:lnTo>
                  </a:path>
                </a:pathLst>
              </a:custGeom>
              <a:gradFill rotWithShape="0">
                <a:gsLst>
                  <a:gs pos="0">
                    <a:srgbClr val="2323b1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900400" y="3022560"/>
                <a:ext cx="93600" cy="144360"/>
              </a:xfrm>
              <a:custGeom>
                <a:avLst/>
                <a:gdLst/>
                <a:ahLst/>
                <a:rect l="l" t="t" r="r" b="b"/>
                <a:pathLst>
                  <a:path w="59" h="91">
                    <a:moveTo>
                      <a:pt x="17" y="90"/>
                    </a:moveTo>
                    <a:lnTo>
                      <a:pt x="58" y="77"/>
                    </a:lnTo>
                    <a:lnTo>
                      <a:pt x="53" y="0"/>
                    </a:lnTo>
                    <a:lnTo>
                      <a:pt x="0" y="16"/>
                    </a:lnTo>
                    <a:lnTo>
                      <a:pt x="17" y="90"/>
                    </a:lnTo>
                  </a:path>
                </a:pathLst>
              </a:custGeom>
              <a:gradFill rotWithShape="0">
                <a:gsLst>
                  <a:gs pos="0">
                    <a:srgbClr val="2323b1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5164200" y="2741760"/>
                <a:ext cx="1066320" cy="425160"/>
                <a:chOff x="5164200" y="2741760"/>
                <a:chExt cx="1066320" cy="42516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5164200" y="2741760"/>
                  <a:ext cx="985680" cy="425160"/>
                </a:xfrm>
                <a:custGeom>
                  <a:avLst/>
                  <a:gdLst/>
                  <a:ahLst/>
                  <a:rect l="l" t="t" r="r" b="b"/>
                  <a:pathLst>
                    <a:path w="621" h="268">
                      <a:moveTo>
                        <a:pt x="0" y="10"/>
                      </a:moveTo>
                      <a:lnTo>
                        <a:pt x="7" y="30"/>
                      </a:lnTo>
                      <a:lnTo>
                        <a:pt x="11" y="40"/>
                      </a:lnTo>
                      <a:lnTo>
                        <a:pt x="17" y="50"/>
                      </a:lnTo>
                      <a:lnTo>
                        <a:pt x="25" y="59"/>
                      </a:lnTo>
                      <a:lnTo>
                        <a:pt x="32" y="71"/>
                      </a:lnTo>
                      <a:lnTo>
                        <a:pt x="41" y="80"/>
                      </a:lnTo>
                      <a:lnTo>
                        <a:pt x="54" y="88"/>
                      </a:lnTo>
                      <a:lnTo>
                        <a:pt x="63" y="96"/>
                      </a:lnTo>
                      <a:lnTo>
                        <a:pt x="78" y="106"/>
                      </a:lnTo>
                      <a:lnTo>
                        <a:pt x="96" y="114"/>
                      </a:lnTo>
                      <a:lnTo>
                        <a:pt x="110" y="121"/>
                      </a:lnTo>
                      <a:lnTo>
                        <a:pt x="130" y="130"/>
                      </a:lnTo>
                      <a:lnTo>
                        <a:pt x="150" y="138"/>
                      </a:lnTo>
                      <a:lnTo>
                        <a:pt x="171" y="145"/>
                      </a:lnTo>
                      <a:lnTo>
                        <a:pt x="190" y="149"/>
                      </a:lnTo>
                      <a:lnTo>
                        <a:pt x="213" y="157"/>
                      </a:lnTo>
                      <a:lnTo>
                        <a:pt x="230" y="161"/>
                      </a:lnTo>
                      <a:lnTo>
                        <a:pt x="252" y="168"/>
                      </a:lnTo>
                      <a:lnTo>
                        <a:pt x="272" y="172"/>
                      </a:lnTo>
                      <a:lnTo>
                        <a:pt x="298" y="177"/>
                      </a:lnTo>
                      <a:lnTo>
                        <a:pt x="319" y="181"/>
                      </a:lnTo>
                      <a:lnTo>
                        <a:pt x="347" y="184"/>
                      </a:lnTo>
                      <a:lnTo>
                        <a:pt x="372" y="187"/>
                      </a:lnTo>
                      <a:lnTo>
                        <a:pt x="395" y="190"/>
                      </a:lnTo>
                      <a:lnTo>
                        <a:pt x="419" y="190"/>
                      </a:lnTo>
                      <a:lnTo>
                        <a:pt x="441" y="192"/>
                      </a:lnTo>
                      <a:lnTo>
                        <a:pt x="464" y="189"/>
                      </a:lnTo>
                      <a:lnTo>
                        <a:pt x="477" y="267"/>
                      </a:lnTo>
                      <a:lnTo>
                        <a:pt x="485" y="254"/>
                      </a:lnTo>
                      <a:lnTo>
                        <a:pt x="494" y="242"/>
                      </a:lnTo>
                      <a:lnTo>
                        <a:pt x="499" y="227"/>
                      </a:lnTo>
                      <a:lnTo>
                        <a:pt x="509" y="216"/>
                      </a:lnTo>
                      <a:lnTo>
                        <a:pt x="515" y="206"/>
                      </a:lnTo>
                      <a:lnTo>
                        <a:pt x="520" y="197"/>
                      </a:lnTo>
                      <a:lnTo>
                        <a:pt x="533" y="187"/>
                      </a:lnTo>
                      <a:lnTo>
                        <a:pt x="540" y="178"/>
                      </a:lnTo>
                      <a:lnTo>
                        <a:pt x="549" y="167"/>
                      </a:lnTo>
                      <a:lnTo>
                        <a:pt x="564" y="157"/>
                      </a:lnTo>
                      <a:lnTo>
                        <a:pt x="576" y="144"/>
                      </a:lnTo>
                      <a:lnTo>
                        <a:pt x="591" y="132"/>
                      </a:lnTo>
                      <a:lnTo>
                        <a:pt x="607" y="121"/>
                      </a:lnTo>
                      <a:lnTo>
                        <a:pt x="620" y="112"/>
                      </a:lnTo>
                      <a:lnTo>
                        <a:pt x="610" y="107"/>
                      </a:lnTo>
                      <a:lnTo>
                        <a:pt x="597" y="105"/>
                      </a:lnTo>
                      <a:lnTo>
                        <a:pt x="588" y="100"/>
                      </a:lnTo>
                      <a:lnTo>
                        <a:pt x="577" y="96"/>
                      </a:lnTo>
                      <a:lnTo>
                        <a:pt x="563" y="91"/>
                      </a:lnTo>
                      <a:lnTo>
                        <a:pt x="551" y="86"/>
                      </a:lnTo>
                      <a:lnTo>
                        <a:pt x="543" y="81"/>
                      </a:lnTo>
                      <a:lnTo>
                        <a:pt x="532" y="78"/>
                      </a:lnTo>
                      <a:lnTo>
                        <a:pt x="521" y="70"/>
                      </a:lnTo>
                      <a:lnTo>
                        <a:pt x="513" y="64"/>
                      </a:lnTo>
                      <a:lnTo>
                        <a:pt x="503" y="58"/>
                      </a:lnTo>
                      <a:lnTo>
                        <a:pt x="493" y="53"/>
                      </a:lnTo>
                      <a:lnTo>
                        <a:pt x="487" y="45"/>
                      </a:lnTo>
                      <a:lnTo>
                        <a:pt x="477" y="39"/>
                      </a:lnTo>
                      <a:lnTo>
                        <a:pt x="467" y="34"/>
                      </a:lnTo>
                      <a:lnTo>
                        <a:pt x="459" y="29"/>
                      </a:lnTo>
                      <a:lnTo>
                        <a:pt x="450" y="19"/>
                      </a:lnTo>
                      <a:lnTo>
                        <a:pt x="455" y="102"/>
                      </a:lnTo>
                      <a:lnTo>
                        <a:pt x="422" y="105"/>
                      </a:lnTo>
                      <a:lnTo>
                        <a:pt x="397" y="106"/>
                      </a:lnTo>
                      <a:lnTo>
                        <a:pt x="352" y="107"/>
                      </a:lnTo>
                      <a:lnTo>
                        <a:pt x="332" y="106"/>
                      </a:lnTo>
                      <a:lnTo>
                        <a:pt x="309" y="104"/>
                      </a:lnTo>
                      <a:lnTo>
                        <a:pt x="283" y="102"/>
                      </a:lnTo>
                      <a:lnTo>
                        <a:pt x="251" y="99"/>
                      </a:lnTo>
                      <a:lnTo>
                        <a:pt x="230" y="96"/>
                      </a:lnTo>
                      <a:lnTo>
                        <a:pt x="198" y="90"/>
                      </a:lnTo>
                      <a:lnTo>
                        <a:pt x="175" y="83"/>
                      </a:lnTo>
                      <a:lnTo>
                        <a:pt x="154" y="79"/>
                      </a:lnTo>
                      <a:lnTo>
                        <a:pt x="136" y="73"/>
                      </a:lnTo>
                      <a:lnTo>
                        <a:pt x="127" y="69"/>
                      </a:lnTo>
                      <a:lnTo>
                        <a:pt x="111" y="60"/>
                      </a:lnTo>
                      <a:lnTo>
                        <a:pt x="95" y="52"/>
                      </a:lnTo>
                      <a:lnTo>
                        <a:pt x="80" y="46"/>
                      </a:lnTo>
                      <a:lnTo>
                        <a:pt x="64" y="31"/>
                      </a:lnTo>
                      <a:lnTo>
                        <a:pt x="53" y="22"/>
                      </a:lnTo>
                      <a:lnTo>
                        <a:pt x="38" y="0"/>
                      </a:lnTo>
                      <a:lnTo>
                        <a:pt x="0" y="10"/>
                      </a:lnTo>
                    </a:path>
                  </a:pathLst>
                </a:custGeom>
                <a:gradFill rotWithShape="0">
                  <a:gsLst>
                    <a:gs pos="0">
                      <a:srgbClr val="2323b1"/>
                    </a:gs>
                    <a:gs pos="100000">
                      <a:srgbClr val="3333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219640" y="2744640"/>
                  <a:ext cx="1010880" cy="406440"/>
                </a:xfrm>
                <a:custGeom>
                  <a:avLst/>
                  <a:gdLst/>
                  <a:ahLst/>
                  <a:rect l="l" t="t" r="r" b="b"/>
                  <a:pathLst>
                    <a:path w="637" h="256">
                      <a:moveTo>
                        <a:pt x="0" y="0"/>
                      </a:moveTo>
                      <a:lnTo>
                        <a:pt x="10" y="18"/>
                      </a:lnTo>
                      <a:lnTo>
                        <a:pt x="12" y="27"/>
                      </a:lnTo>
                      <a:lnTo>
                        <a:pt x="19" y="40"/>
                      </a:lnTo>
                      <a:lnTo>
                        <a:pt x="26" y="49"/>
                      </a:lnTo>
                      <a:lnTo>
                        <a:pt x="34" y="59"/>
                      </a:lnTo>
                      <a:lnTo>
                        <a:pt x="45" y="68"/>
                      </a:lnTo>
                      <a:lnTo>
                        <a:pt x="54" y="77"/>
                      </a:lnTo>
                      <a:lnTo>
                        <a:pt x="66" y="85"/>
                      </a:lnTo>
                      <a:lnTo>
                        <a:pt x="81" y="96"/>
                      </a:lnTo>
                      <a:lnTo>
                        <a:pt x="99" y="102"/>
                      </a:lnTo>
                      <a:lnTo>
                        <a:pt x="114" y="112"/>
                      </a:lnTo>
                      <a:lnTo>
                        <a:pt x="137" y="120"/>
                      </a:lnTo>
                      <a:lnTo>
                        <a:pt x="153" y="126"/>
                      </a:lnTo>
                      <a:lnTo>
                        <a:pt x="173" y="133"/>
                      </a:lnTo>
                      <a:lnTo>
                        <a:pt x="196" y="140"/>
                      </a:lnTo>
                      <a:lnTo>
                        <a:pt x="216" y="145"/>
                      </a:lnTo>
                      <a:lnTo>
                        <a:pt x="234" y="149"/>
                      </a:lnTo>
                      <a:lnTo>
                        <a:pt x="258" y="154"/>
                      </a:lnTo>
                      <a:lnTo>
                        <a:pt x="281" y="161"/>
                      </a:lnTo>
                      <a:lnTo>
                        <a:pt x="305" y="164"/>
                      </a:lnTo>
                      <a:lnTo>
                        <a:pt x="326" y="169"/>
                      </a:lnTo>
                      <a:lnTo>
                        <a:pt x="354" y="171"/>
                      </a:lnTo>
                      <a:lnTo>
                        <a:pt x="381" y="175"/>
                      </a:lnTo>
                      <a:lnTo>
                        <a:pt x="404" y="176"/>
                      </a:lnTo>
                      <a:lnTo>
                        <a:pt x="430" y="179"/>
                      </a:lnTo>
                      <a:lnTo>
                        <a:pt x="452" y="179"/>
                      </a:lnTo>
                      <a:lnTo>
                        <a:pt x="475" y="176"/>
                      </a:lnTo>
                      <a:lnTo>
                        <a:pt x="486" y="255"/>
                      </a:lnTo>
                      <a:lnTo>
                        <a:pt x="496" y="239"/>
                      </a:lnTo>
                      <a:lnTo>
                        <a:pt x="503" y="228"/>
                      </a:lnTo>
                      <a:lnTo>
                        <a:pt x="510" y="213"/>
                      </a:lnTo>
                      <a:lnTo>
                        <a:pt x="520" y="203"/>
                      </a:lnTo>
                      <a:lnTo>
                        <a:pt x="527" y="192"/>
                      </a:lnTo>
                      <a:lnTo>
                        <a:pt x="536" y="182"/>
                      </a:lnTo>
                      <a:lnTo>
                        <a:pt x="545" y="174"/>
                      </a:lnTo>
                      <a:lnTo>
                        <a:pt x="553" y="166"/>
                      </a:lnTo>
                      <a:lnTo>
                        <a:pt x="564" y="153"/>
                      </a:lnTo>
                      <a:lnTo>
                        <a:pt x="579" y="141"/>
                      </a:lnTo>
                      <a:lnTo>
                        <a:pt x="592" y="131"/>
                      </a:lnTo>
                      <a:lnTo>
                        <a:pt x="606" y="118"/>
                      </a:lnTo>
                      <a:lnTo>
                        <a:pt x="621" y="107"/>
                      </a:lnTo>
                      <a:lnTo>
                        <a:pt x="636" y="96"/>
                      </a:lnTo>
                      <a:lnTo>
                        <a:pt x="627" y="93"/>
                      </a:lnTo>
                      <a:lnTo>
                        <a:pt x="614" y="90"/>
                      </a:lnTo>
                      <a:lnTo>
                        <a:pt x="602" y="85"/>
                      </a:lnTo>
                      <a:lnTo>
                        <a:pt x="589" y="82"/>
                      </a:lnTo>
                      <a:lnTo>
                        <a:pt x="578" y="76"/>
                      </a:lnTo>
                      <a:lnTo>
                        <a:pt x="567" y="72"/>
                      </a:lnTo>
                      <a:lnTo>
                        <a:pt x="557" y="67"/>
                      </a:lnTo>
                      <a:lnTo>
                        <a:pt x="549" y="62"/>
                      </a:lnTo>
                      <a:lnTo>
                        <a:pt x="538" y="56"/>
                      </a:lnTo>
                      <a:lnTo>
                        <a:pt x="527" y="51"/>
                      </a:lnTo>
                      <a:lnTo>
                        <a:pt x="517" y="43"/>
                      </a:lnTo>
                      <a:lnTo>
                        <a:pt x="508" y="37"/>
                      </a:lnTo>
                      <a:lnTo>
                        <a:pt x="500" y="32"/>
                      </a:lnTo>
                      <a:lnTo>
                        <a:pt x="492" y="26"/>
                      </a:lnTo>
                      <a:lnTo>
                        <a:pt x="486" y="20"/>
                      </a:lnTo>
                      <a:lnTo>
                        <a:pt x="473" y="14"/>
                      </a:lnTo>
                      <a:lnTo>
                        <a:pt x="465" y="4"/>
                      </a:lnTo>
                      <a:lnTo>
                        <a:pt x="467" y="88"/>
                      </a:lnTo>
                      <a:lnTo>
                        <a:pt x="434" y="92"/>
                      </a:lnTo>
                      <a:lnTo>
                        <a:pt x="407" y="94"/>
                      </a:lnTo>
                      <a:lnTo>
                        <a:pt x="362" y="93"/>
                      </a:lnTo>
                      <a:lnTo>
                        <a:pt x="340" y="92"/>
                      </a:lnTo>
                      <a:lnTo>
                        <a:pt x="319" y="91"/>
                      </a:lnTo>
                      <a:lnTo>
                        <a:pt x="281" y="88"/>
                      </a:lnTo>
                      <a:lnTo>
                        <a:pt x="258" y="87"/>
                      </a:lnTo>
                      <a:lnTo>
                        <a:pt x="232" y="85"/>
                      </a:lnTo>
                      <a:lnTo>
                        <a:pt x="212" y="81"/>
                      </a:lnTo>
                      <a:lnTo>
                        <a:pt x="195" y="81"/>
                      </a:lnTo>
                      <a:lnTo>
                        <a:pt x="175" y="78"/>
                      </a:lnTo>
                      <a:lnTo>
                        <a:pt x="156" y="74"/>
                      </a:lnTo>
                      <a:lnTo>
                        <a:pt x="138" y="72"/>
                      </a:lnTo>
                      <a:lnTo>
                        <a:pt x="122" y="67"/>
                      </a:lnTo>
                      <a:lnTo>
                        <a:pt x="104" y="63"/>
                      </a:lnTo>
                      <a:lnTo>
                        <a:pt x="87" y="56"/>
                      </a:lnTo>
                      <a:lnTo>
                        <a:pt x="72" y="48"/>
                      </a:lnTo>
                      <a:lnTo>
                        <a:pt x="60" y="39"/>
                      </a:lnTo>
                      <a:lnTo>
                        <a:pt x="45" y="33"/>
                      </a:lnTo>
                      <a:lnTo>
                        <a:pt x="35" y="24"/>
                      </a:lnTo>
                      <a:lnTo>
                        <a:pt x="22" y="14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2323b1"/>
                    </a:gs>
                    <a:gs pos="100000">
                      <a:srgbClr val="3333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77BC-A173-44ED-BF61-3B6A8A45116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0T17:31:50Z</dcterms:created>
  <dc:creator/>
  <dc:description/>
  <dc:language>en-US</dc:language>
  <cp:lastModifiedBy>Kyriacou Efthyvoulos</cp:lastModifiedBy>
  <cp:lastPrinted>1999-04-01T12:27:14Z</cp:lastPrinted>
  <dcterms:modified xsi:type="dcterms:W3CDTF">1999-04-01T12:27:26Z</dcterms:modified>
  <cp:revision>10812</cp:revision>
  <dc:subject/>
  <dc:title>No Slide Title</dc:title>
</cp:coreProperties>
</file>